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2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wmf" ContentType="image/x-wmf"/>
  <Override PartName="/ppt/media/image13.jpeg" ContentType="image/jpeg"/>
  <Override PartName="/ppt/media/image23.png" ContentType="image/png"/>
  <Override PartName="/ppt/media/image27.png" ContentType="image/png"/>
  <Override PartName="/ppt/media/image26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7.wmf" ContentType="image/x-wmf"/>
  <Override PartName="/ppt/media/image3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1.png" ContentType="image/pn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06F1-5119-4289-99DD-0E73FB4344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9E0B-45B4-4FA2-B118-45BE2B2AC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C724-3600-4691-B007-E9F9F54CA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53CB-78AA-41E1-9E04-7B444FD2B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7211-8A7E-4E19-9B51-D394FBDFA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8F0B-C685-430B-8262-BF521529D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C718-D05A-47D0-9260-0FA1FACC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5BB3-0EB5-47E8-9486-539FC957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910F-AC0E-44A6-86C3-965A5D9E5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9373-3EA6-4BF0-8ABA-ED4AC569D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55A2-72D0-4E2D-AB7C-5E46B11B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ED38-1B4B-4C43-AA81-CE3FAFC04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ACD2-5F42-495C-B450-666A9B42A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E16E-E177-4336-AE24-255086E69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F6A4-6C34-44EC-8F17-135DE225C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C2C3-D10D-4154-B4C3-BBC88A68F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8CA9-740E-4C87-95B8-AE39EB20B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CED4-D00C-42F6-8432-949CBA529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DA59-C1C0-424D-879E-BC867A322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A40B-0EA5-40D1-B253-311D498DD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1EC4-83C0-47B6-8732-B3076299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6BE2-3489-4456-A767-AE00F9335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E3E-C8D9-4E00-BED9-ECF2F85F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150-EEFB-48C2-A9CA-DB0925F8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7AA-182E-44C7-97FB-FD028F8F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A98-136C-4957-8E5E-22023736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041-BB9F-45CB-B64F-F64670F1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DBB-2277-49FB-9B2A-E8F4E75A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D67-4270-49D7-A0BA-8FFADDBB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E25-94C1-4A75-97A7-8C0358B6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A79-AC7E-47E7-8A7C-05681F30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254-D834-4F62-9759-A02513F8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6D4-CBF9-4566-BB79-F96EF458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84F-E9E9-46C0-908F-A99CE137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D192-2FCE-4F16-8A12-2B7C428D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Public%20Sector%20Estm%20R10%2006.xls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962520"/>
            <a:ext cx="8675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00-13.30 5Dec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anks to Don Hi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Reporting basics of health care institutions in the DRG system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ERE SHOULD THE BUDGET (GROWTH) MONEY 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THE REGIONS THAT HAVE THE MOST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THE TOWNS THAT HAVE THE MOST HOSPIT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THE HOSPITALS THAT DO THE MOS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YPICAL PROBLEMS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535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Perverse incentives/inefficient resourc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Lack of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Poor clinical data (diagnoses and 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Poor measures of expected cost per cas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Mistrust between funders and car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Unclear vision about mid-ter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6945480" y="214200"/>
            <a:ext cx="120780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8259840" y="214200"/>
            <a:ext cx="884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94760" y="1981080"/>
            <a:ext cx="8604360" cy="400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txBody>
          <a:bodyPr lIns="54000" rIns="54000" tIns="44280" bIns="44280" anchor="b">
            <a:normAutofit/>
          </a:bodyPr>
          <a:p>
            <a:pPr marL="758880" indent="-758880">
              <a:lnSpc>
                <a:spcPct val="100000"/>
              </a:lnSpc>
              <a:spcBef>
                <a:spcPts val="2801"/>
              </a:spcBef>
              <a:buClr>
                <a:srgbClr val="009999"/>
              </a:buClr>
              <a:buFont typeface="Poor Richard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HOWEVER -  it's hard to agree, because data are never good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-758880">
              <a:lnSpc>
                <a:spcPct val="100000"/>
              </a:lnSpc>
              <a:spcBef>
                <a:spcPts val="2801"/>
              </a:spcBef>
              <a:buClr>
                <a:srgbClr val="009999"/>
              </a:buClr>
              <a:buFont typeface="Poor Richard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It's hard to compare locally or inter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-758880">
              <a:lnSpc>
                <a:spcPct val="100000"/>
              </a:lnSpc>
              <a:spcBef>
                <a:spcPts val="2801"/>
              </a:spcBef>
              <a:buClr>
                <a:srgbClr val="009999"/>
              </a:buClr>
              <a:buFont typeface="Poor Richard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Poor Richard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MY CASES ARE  HARDER THAN YOURS!</a:t>
            </a:r>
            <a:r>
              <a:rPr b="0" lang="ja-JP" sz="2800" spc="-1" strike="noStrike">
                <a:solidFill>
                  <a:srgbClr val="000000"/>
                </a:solidFill>
                <a:latin typeface="Poor Richard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-758880">
              <a:lnSpc>
                <a:spcPct val="100000"/>
              </a:lnSpc>
              <a:spcBef>
                <a:spcPts val="2801"/>
              </a:spcBef>
              <a:buClr>
                <a:srgbClr val="009999"/>
              </a:buClr>
              <a:buFont typeface="Poor Richard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We are arguing about things that could and should be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Poor Richard"/>
              </a:rPr>
              <a:t>NEED TO AGREE ON FAIR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 CASEMIX DEVELOPMENT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TEN YEAR PROGRAM FROM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R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TA STANDARDS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TIONAL HEALTH INFORMATION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NKAGE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1 2 3 – DRG” 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on Marie Tehan MP"/>
          <p:cNvPicPr/>
          <p:nvPr/>
        </p:nvPicPr>
        <p:blipFill>
          <a:blip r:embed="rId1"/>
          <a:stretch/>
        </p:blipFill>
        <p:spPr>
          <a:xfrm>
            <a:off x="250920" y="0"/>
            <a:ext cx="1798560" cy="230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r Carmen Lawrence"/>
          <p:cNvPicPr/>
          <p:nvPr/>
        </p:nvPicPr>
        <p:blipFill>
          <a:blip r:embed="rId2"/>
          <a:stretch/>
        </p:blipFill>
        <p:spPr>
          <a:xfrm>
            <a:off x="1908000" y="765000"/>
            <a:ext cx="1771920" cy="236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Mr Steve Anderson"/>
          <p:cNvPicPr/>
          <p:nvPr/>
        </p:nvPicPr>
        <p:blipFill>
          <a:blip r:embed="rId3"/>
          <a:stretch/>
        </p:blipFill>
        <p:spPr>
          <a:xfrm>
            <a:off x="6267600" y="765000"/>
            <a:ext cx="147312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Mr David Renfrey"/>
          <p:cNvPicPr/>
          <p:nvPr/>
        </p:nvPicPr>
        <p:blipFill>
          <a:blip r:embed="rId4"/>
          <a:stretch/>
        </p:blipFill>
        <p:spPr>
          <a:xfrm>
            <a:off x="7667640" y="476280"/>
            <a:ext cx="1332000" cy="1942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r Michael Walsh"/>
          <p:cNvPicPr/>
          <p:nvPr/>
        </p:nvPicPr>
        <p:blipFill>
          <a:blip r:embed="rId5"/>
          <a:stretch/>
        </p:blipFill>
        <p:spPr>
          <a:xfrm>
            <a:off x="2050920" y="3500280"/>
            <a:ext cx="1698840" cy="241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Dr Stephen Duckett"/>
          <p:cNvPicPr/>
          <p:nvPr/>
        </p:nvPicPr>
        <p:blipFill>
          <a:blip r:embed="rId6"/>
          <a:stretch/>
        </p:blipFill>
        <p:spPr>
          <a:xfrm>
            <a:off x="3708360" y="3068640"/>
            <a:ext cx="149400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Russell Schneider"/>
          <p:cNvPicPr/>
          <p:nvPr/>
        </p:nvPicPr>
        <p:blipFill>
          <a:blip r:embed="rId7"/>
          <a:stretch/>
        </p:blipFill>
        <p:spPr>
          <a:xfrm>
            <a:off x="539640" y="4365720"/>
            <a:ext cx="1638360" cy="22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rofessor George Palmer"/>
          <p:cNvPicPr/>
          <p:nvPr/>
        </p:nvPicPr>
        <p:blipFill>
          <a:blip r:embed="rId8"/>
          <a:stretch/>
        </p:blipFill>
        <p:spPr>
          <a:xfrm>
            <a:off x="5076720" y="2349360"/>
            <a:ext cx="1623960" cy="2117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2340000" y="602136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211640" y="479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7020000" y="184464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4932360" y="836640"/>
            <a:ext cx="15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50920" y="177336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250920" y="2637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OVERNMENT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Joe Scuteri"/>
          <p:cNvPicPr/>
          <p:nvPr/>
        </p:nvPicPr>
        <p:blipFill>
          <a:blip r:embed="rId9"/>
          <a:stretch/>
        </p:blipFill>
        <p:spPr>
          <a:xfrm>
            <a:off x="5796000" y="4886280"/>
            <a:ext cx="1654200" cy="19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Beth Reid"/>
          <p:cNvPicPr/>
          <p:nvPr/>
        </p:nvPicPr>
        <p:blipFill>
          <a:blip r:embed="rId10"/>
          <a:stretch/>
        </p:blipFill>
        <p:spPr>
          <a:xfrm>
            <a:off x="7164360" y="3573360"/>
            <a:ext cx="1563840" cy="2239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8"/>
          <p:cNvSpPr/>
          <p:nvPr/>
        </p:nvSpPr>
        <p:spPr>
          <a:xfrm>
            <a:off x="7631280" y="6021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484360" y="25416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2082600" y="157320"/>
            <a:ext cx="51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MPLEMENTAT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ROM MEDICARE TO THE AUSTRALIAN HEALTHCARE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ON DATA STANDARDS – CASEMIX AND DATA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NE SIZE FITS ALL” DRGs? – THE CASE FOR LOC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MINIMUM DATASETS – WHERE DID MY DATA ITEM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RFORMANCE FEEDBACK IN USEFUL TIMEFRAMES? 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EXAMPLE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4300" spc="-1" strike="noStrike">
                <a:solidFill>
                  <a:srgbClr val="000000"/>
                </a:solidFill>
                <a:latin typeface="Arial"/>
              </a:rPr>
              <a:t>EARLY IMPLEMENTATION THROUGHPU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685800" y="2176560"/>
          <a:ext cx="777240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76560"/>
                    <a:ext cx="777240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Box 1"/>
          <p:cNvSpPr/>
          <p:nvPr/>
        </p:nvSpPr>
        <p:spPr>
          <a:xfrm>
            <a:off x="1306800" y="1905120"/>
            <a:ext cx="62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CASES WITHOUT EXTRA BUDGET – LOWER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OME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114560" y="1627200"/>
            <a:ext cx="67118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DRGs Applications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214200" y="1738440"/>
            <a:ext cx="8500680" cy="5119560"/>
            <a:chOff x="214200" y="1738440"/>
            <a:chExt cx="8500680" cy="5119560"/>
          </a:xfrm>
        </p:grpSpPr>
        <p:graphicFrame>
          <p:nvGraphicFramePr>
            <p:cNvPr id="117" name="Object 2"/>
            <p:cNvGraphicFramePr/>
            <p:nvPr/>
          </p:nvGraphicFramePr>
          <p:xfrm>
            <a:off x="214200" y="1738440"/>
            <a:ext cx="8500680" cy="511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200" y="1738440"/>
                      <a:ext cx="8500680" cy="511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Text Box 5"/>
            <p:cNvSpPr/>
            <p:nvPr/>
          </p:nvSpPr>
          <p:spPr>
            <a:xfrm>
              <a:off x="640440" y="4138560"/>
              <a:ext cx="3145320" cy="2562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# of Beds: 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# of Inpatients: 26,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vg. Length of Stay: 6,0 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Bed Turnover rate: 52 p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3784680" y="4138560"/>
              <a:ext cx="3144960" cy="24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# of Beds: 3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# of Inpatients: 42,8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vg. Length of Stay:</a:t>
              </a: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3,23 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Bed Turnover rate: 113 p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6929640" y="4138560"/>
              <a:ext cx="1106640" cy="2562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0066"/>
                  </a:solidFill>
                  <a:latin typeface="Arial"/>
                </a:rPr>
                <a:t>% 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0066"/>
                  </a:solidFill>
                  <a:latin typeface="Arial"/>
                </a:rPr>
                <a:t>% 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0066"/>
                  </a:solidFill>
                  <a:latin typeface="Arial"/>
                </a:rPr>
                <a:t>% 4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0066"/>
                  </a:solidFill>
                  <a:latin typeface="Arial"/>
                </a:rPr>
                <a:t>% 1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3440" y="228600"/>
            <a:ext cx="773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LINICAL QUA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3440" y="1447560"/>
            <a:ext cx="773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Perforation of the colon </a:t>
            </a:r>
            <a:r>
              <a:rPr b="0" lang="en-AU" sz="24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following a colonoscopy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Anastomotic break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Poor Rich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following large bowel resection and anastomosis for cancer of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oor Rich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- colon - rec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Bile duct injury following cholecystectomy requiring operative inter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Mortality following repair of abdominal aortic aneury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ing a DRG funding system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ata – coding accuracy and completeness – don’t wait for per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ing data – from a sample group of hospitals – can import initi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d budgets and phased implementation plan with adjustment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AUSTRALIAN IMPLEMENTATION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Poor Richard"/>
              </a:rPr>
              <a:t>The importanc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Poor Richard"/>
              </a:rPr>
              <a:t>Risk management – modelled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Poor Richard"/>
              </a:rPr>
              <a:t>Transparency of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Poor Richard"/>
              </a:rPr>
              <a:t>Learning from mist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Poor Richard"/>
              </a:rPr>
              <a:t>Australia still refining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Poor Richard"/>
              </a:rPr>
              <a:t>New challenges – solve some, others app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Poor Richard"/>
              </a:rPr>
              <a:t>Some basic building 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67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8680" y="6467400"/>
            <a:ext cx="85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ealth.gov.au/internet/wcms/publishing.nsf/Content/15033D7F2949990CCA256F1D00294D9F/$File/tbl8b_17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187280" y="1057320"/>
            <a:ext cx="7417080" cy="436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1187280" y="5589720"/>
            <a:ext cx="7417080" cy="1004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166760" y="208080"/>
            <a:ext cx="686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dmitted Patient Care Collection (NAP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health.gov.au/internet/wcms/publishing.nsf/Content/health-casemix-data-collections-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47640" y="1557360"/>
            <a:ext cx="7669440" cy="258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523880" y="299880"/>
            <a:ext cx="7435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Hospital Cost Data Collection (NHC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health.gov.au/internet/wcms/publishing.nsf/Content/health-casemix-data-collections-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0000" y="11905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96720" y="42210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2"/>
          <a:stretch/>
        </p:blipFill>
        <p:spPr>
          <a:xfrm>
            <a:off x="611280" y="4581360"/>
            <a:ext cx="777708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57120" y="1457280"/>
          <a:ext cx="8643960" cy="4714920"/>
        </p:xfrm>
        <a:graphic>
          <a:graphicData uri="http://schemas.openxmlformats.org/drawingml/2006/table">
            <a:tbl>
              <a:tblPr/>
              <a:tblGrid>
                <a:gridCol w="306360"/>
                <a:gridCol w="1803600"/>
                <a:gridCol w="404640"/>
                <a:gridCol w="514440"/>
                <a:gridCol w="515880"/>
                <a:gridCol w="579600"/>
                <a:gridCol w="358560"/>
                <a:gridCol w="468360"/>
                <a:gridCol w="405000"/>
                <a:gridCol w="441000"/>
                <a:gridCol w="392400"/>
                <a:gridCol w="404640"/>
                <a:gridCol w="453960"/>
                <a:gridCol w="392400"/>
                <a:gridCol w="453960"/>
                <a:gridCol w="358560"/>
                <a:gridCol w="390600"/>
              </a:tblGrid>
              <a:tr h="371520">
                <a:tc gridSpan="7"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WEIGHTS FOR AR-DRG VERSION 5.0, Round 10 (2005-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 Descrip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st per DRG ($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mponent Cost per DRG ($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Se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D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Med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Nurs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linical Salar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1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 Transpla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9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3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g Or Heart/Lung Transpla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4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6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5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Transpla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8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6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heostomy Or Ventilation&gt;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,5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9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7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g Bone Marrow Transpla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8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Bone Marrow Transplnt+C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6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8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Bone Marrow Transplnt-C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9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ransplant+Pancreas/+C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9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ransplant -Pancreas-C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6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0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mo - Cardiac Surg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bation Age&lt;16+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bation Age&lt;16-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1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Shunt Revi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aniotomy + C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9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aniotomy + Sm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6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4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aniotomy - 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9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1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3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Procedures + 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3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Procedures - 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4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cranial Vascular Pr +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4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cranial Vascular Pr -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5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al Tunnel Rele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6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l Psy,Mus Dysy,Npthy Pr+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6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l Psy,Mus Dysy,Npthy Pr-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7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phl &amp; Cranl Nerv &amp; Oth Pr+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4"/>
          <p:cNvSpPr/>
          <p:nvPr/>
        </p:nvSpPr>
        <p:spPr>
          <a:xfrm>
            <a:off x="2750040" y="68580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ublic Sector Estm R10 06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20880" y="1050840"/>
            <a:ext cx="2684160" cy="54626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Mean cost/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ie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52720" y="1050840"/>
            <a:ext cx="2273400" cy="54626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Our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$2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237360" y="1050840"/>
            <a:ext cx="2597040" cy="54626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Other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$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928800" y="1689120"/>
            <a:ext cx="7929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920880" y="5908680"/>
            <a:ext cx="79246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16292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Benchmarking by cost only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0"/>
          <p:cNvGraphicFramePr/>
          <p:nvPr/>
        </p:nvGraphicFramePr>
        <p:xfrm>
          <a:off x="4402080" y="1447920"/>
          <a:ext cx="1527120" cy="46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1447920"/>
                    <a:ext cx="152712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7"/>
          <p:cNvSpPr/>
          <p:nvPr/>
        </p:nvSpPr>
        <p:spPr>
          <a:xfrm>
            <a:off x="6037200" y="2424240"/>
            <a:ext cx="2463840" cy="1218960"/>
          </a:xfrm>
          <a:prstGeom prst="wedgeRoundRectCallout">
            <a:avLst>
              <a:gd name="adj1" fmla="val -81513"/>
              <a:gd name="adj2" fmla="val -3757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062760" y="2514600"/>
            <a:ext cx="2652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800" spc="-1" strike="noStrike">
                <a:solidFill>
                  <a:srgbClr val="060293"/>
                </a:solidFill>
                <a:latin typeface="Arial"/>
              </a:rPr>
              <a:t>But patient 15644 was different from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1824120" y="428760"/>
            <a:ext cx="3357360" cy="1218960"/>
          </a:xfrm>
          <a:prstGeom prst="wedgeRoundRectCallout">
            <a:avLst>
              <a:gd name="adj1" fmla="val -41069"/>
              <a:gd name="adj2" fmla="val 6913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828800" y="380880"/>
            <a:ext cx="3533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800" spc="-1" strike="noStrike">
                <a:solidFill>
                  <a:srgbClr val="060293"/>
                </a:solidFill>
                <a:latin typeface="Arial"/>
              </a:rPr>
              <a:t>Look! You spent too much on patient 156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3"/>
          <a:stretch/>
        </p:blipFill>
        <p:spPr>
          <a:xfrm rot="21124800">
            <a:off x="396720" y="1353600"/>
            <a:ext cx="324324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048"/>
          <p:cNvGraphicFramePr/>
          <p:nvPr/>
        </p:nvGraphicFramePr>
        <p:xfrm>
          <a:off x="3749760" y="1928880"/>
          <a:ext cx="1434960" cy="444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9760" y="1928880"/>
                    <a:ext cx="143496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AutoShape 1027"/>
          <p:cNvSpPr/>
          <p:nvPr/>
        </p:nvSpPr>
        <p:spPr>
          <a:xfrm>
            <a:off x="5410080" y="2133720"/>
            <a:ext cx="3392640" cy="1066680"/>
          </a:xfrm>
          <a:prstGeom prst="wedgeRoundRectCallout">
            <a:avLst>
              <a:gd name="adj1" fmla="val -65393"/>
              <a:gd name="adj2" fmla="val -285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28"/>
          <p:cNvSpPr/>
          <p:nvPr/>
        </p:nvSpPr>
        <p:spPr>
          <a:xfrm>
            <a:off x="5715000" y="2286000"/>
            <a:ext cx="27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800" spc="-1" strike="noStrike">
                <a:solidFill>
                  <a:srgbClr val="060293"/>
                </a:solidFill>
                <a:latin typeface="Arial"/>
              </a:rPr>
              <a:t>Sorry, I'll try not to do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30"/>
          <p:cNvSpPr/>
          <p:nvPr/>
        </p:nvSpPr>
        <p:spPr>
          <a:xfrm>
            <a:off x="1905120" y="152280"/>
            <a:ext cx="3504960" cy="1371600"/>
          </a:xfrm>
          <a:prstGeom prst="wedgeRoundRectCallout">
            <a:avLst>
              <a:gd name="adj1" fmla="val -47643"/>
              <a:gd name="adj2" fmla="val 9837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31"/>
          <p:cNvSpPr/>
          <p:nvPr/>
        </p:nvSpPr>
        <p:spPr>
          <a:xfrm>
            <a:off x="2104920" y="257040"/>
            <a:ext cx="32450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800" spc="-1" strike="noStrike">
                <a:solidFill>
                  <a:srgbClr val="060293"/>
                </a:solidFill>
                <a:latin typeface="Arial"/>
              </a:rPr>
              <a:t>I've checked, and patient 15644 wasn't different at 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32" descr=""/>
          <p:cNvPicPr/>
          <p:nvPr/>
        </p:nvPicPr>
        <p:blipFill>
          <a:blip r:embed="rId3"/>
          <a:stretch/>
        </p:blipFill>
        <p:spPr>
          <a:xfrm>
            <a:off x="-23760" y="1468440"/>
            <a:ext cx="35956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49200" y="1616040"/>
            <a:ext cx="3379680" cy="4776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Elements of c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tted how long before proced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-op hours in C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 of discharge plan at admi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OK deleg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911760" y="1616040"/>
            <a:ext cx="2176200" cy="4780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Our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99200" y="1571760"/>
            <a:ext cx="2575080" cy="477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Other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68280" y="2133720"/>
            <a:ext cx="83757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477720"/>
            <a:ext cx="8029440" cy="5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… 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nd benchmarking by clinic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40478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ing feedback to hospitals on the efficiency and quality of their outputs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24382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asons why hospitals want to measure what they d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9047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to a bud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to peer benchmark with best value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best service possible to their comm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signals – price vs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uses for output target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uses for performance indicator attainment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ing lists – ED – Elective surgery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levels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3 key components of a DRG funding system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Hospital (IP) activity by D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520" y="1828800"/>
            <a:ext cx="8183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abulated to produce a table of hospital by D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ctivity data checked for completeness and accurate DRG assig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ospital budget data – one years estimate and/or actual expenditure by hosp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patient fractions (IFRA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throughput payment proportion or components (eg if salaries not included need to be taken ou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costweigh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ayment mod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BUDGET/EXPENDITUR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LED BU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ocation of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s for specific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ervic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s on discretionar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of funding/payment -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THREE MUSTS OF CS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64213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START FROM WHERE YOU 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ECIDE WHERE YOU WANT TO 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AKE ACHIEVABLE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MCj04315450000[1]"/>
          <p:cNvPicPr/>
          <p:nvPr/>
        </p:nvPicPr>
        <p:blipFill>
          <a:blip r:embed="rId1"/>
          <a:stretch/>
        </p:blipFill>
        <p:spPr>
          <a:xfrm>
            <a:off x="6858000" y="1700280"/>
            <a:ext cx="2286000" cy="120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MCBD07810_0000[1]"/>
          <p:cNvPicPr/>
          <p:nvPr/>
        </p:nvPicPr>
        <p:blipFill>
          <a:blip r:embed="rId2"/>
          <a:stretch/>
        </p:blipFill>
        <p:spPr>
          <a:xfrm>
            <a:off x="7074000" y="4708440"/>
            <a:ext cx="1584360" cy="175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MPj04229500000[1]"/>
          <p:cNvPicPr/>
          <p:nvPr/>
        </p:nvPicPr>
        <p:blipFill>
          <a:blip r:embed="rId3"/>
          <a:stretch/>
        </p:blipFill>
        <p:spPr>
          <a:xfrm>
            <a:off x="7236000" y="2924280"/>
            <a:ext cx="16016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efficiency and quality of health service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weighted unit of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dicators on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– hospital acquired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– eg milestone indicators – SF21 – satisfac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compliance with best practic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ical experience with 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AT DO YOU DO WITHOUT CASEM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DDAY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SCHARGES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ROUD W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LOBAL BUDGETS AND TOP-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RVI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UALITY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ALUE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6320" y="1373040"/>
            <a:ext cx="9144000" cy="5484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045880" y="776160"/>
            <a:ext cx="66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ihw.gov.au/publications/health/ihhac/ihhac-c06c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BUT OUR HOSPITAL GETS ALL THE DIFFICULT CASES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ING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MANY HOSPITALS DO YOU NEED -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MANY MRI SCANNERS DO YOU NEED -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79280" y="1989000"/>
          <a:ext cx="8785440" cy="2494080"/>
        </p:xfrm>
        <a:graphic>
          <a:graphicData uri="http://schemas.openxmlformats.org/drawingml/2006/table">
            <a:tbl>
              <a:tblPr/>
              <a:tblGrid>
                <a:gridCol w="3672000"/>
                <a:gridCol w="792000"/>
                <a:gridCol w="1152720"/>
                <a:gridCol w="873000"/>
                <a:gridCol w="855720"/>
                <a:gridCol w="677880"/>
                <a:gridCol w="762120"/>
              </a:tblGrid>
              <a:tr h="75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.S.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ita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ians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opul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care expenditure/GDP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218"/>
          <p:cNvSpPr/>
          <p:nvPr/>
        </p:nvSpPr>
        <p:spPr>
          <a:xfrm>
            <a:off x="271440" y="5105520"/>
            <a:ext cx="86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209.85.135.104/search?q=cache:Uscfbb-xVvgJ:www.stat.go.jp/english/data/figures/zuhyou/1696.xls+beds+per+1000+international&amp;hl=en&amp;ct=clnk&amp;cd=5&amp;gl=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OTHER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022040" y="5486400"/>
            <a:ext cx="67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THESE MEASURES REALLY LIKE WITH LIKE??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RICHARD  MARSHALL</cp:lastModifiedBy>
  <dcterms:modified xsi:type="dcterms:W3CDTF">2011-12-03T05:08:48Z</dcterms:modified>
  <cp:revision>124</cp:revision>
  <dc:subject/>
  <dc:title>Наслов</dc:title>
</cp:coreProperties>
</file>