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2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wmf" ContentType="image/x-wmf"/>
  <Override PartName="/ppt/media/image13.jpeg" ContentType="image/jpeg"/>
  <Override PartName="/ppt/media/image23.png" ContentType="image/png"/>
  <Override PartName="/ppt/media/image27.png" ContentType="image/png"/>
  <Override PartName="/ppt/media/image26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CC0-7078-48D8-A589-40CDBAE4E8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1B9-8603-48A3-8617-E686A6E0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EF5-6357-4BF4-A0B8-1D97EF91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AB4-C917-4838-896D-A6810AF7B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E3F-9444-4146-AF10-6B8A6491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E3A-9204-49D1-A400-722F0697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7C7-02C9-4A1A-A6AB-EE02E1E2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982E-37A9-41F1-AFA3-26C4B895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81F-F66C-46D2-852E-6EA736C94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63A-95EF-455C-B9D7-695A5C50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250-0D6F-4ECE-93AE-2A39A7EC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262-AFC7-4274-BFDA-D4233691B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6AFD-65CD-4A6A-9898-AB6FF354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192B-6260-4421-9BFD-75DB9E02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6AF-94C2-4DB6-9CE7-F933A400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FD33-5477-43D2-A3C8-5781E265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924-C2F1-45FF-948D-31521494D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70A3-C3A5-4541-A69C-92A80E82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0CD-32D2-49E7-9B22-DAED1271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2DA-9649-41DF-A142-D6E8D5BB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1F8-42B4-4563-8FCB-7A64437B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59D7-E899-42E3-B49A-25B9BCBD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20C-BAD8-42FF-94F1-C6592790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8B4-50D7-4643-88E0-B7B68B9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B77-92CE-411B-AB67-4F0F60D4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01E-AA0B-45BC-BB5A-B3C87F77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3EB-497E-475E-A418-23404CB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075-7D4D-4B86-B45F-3D190AAF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477-20D0-4EEF-96EF-473BBBA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FF5-4D0D-48A0-B6B2-FB639815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89E-A52A-46CA-9E3C-B3053A2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7D6-01E9-421E-9C7E-3298267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DDC-B647-488C-8CCB-8490C96C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088-49E8-448D-B684-8F337D3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D323-5D18-448E-A68D-3F5215AC1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ublic%20Sector%20Estm%20R10%2006.xls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962520"/>
            <a:ext cx="8675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00-13.3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anks to Don Hi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Reporting basics of health care institutions in the DRG system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ERE SHOULD THE BUDGET (GROWTH) MONEY 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REGIONS THAT HAVE THE MOS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TOWNS THAT HAVE THE MOST HOSPIT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THE HOSPITALS THAT DO THE MOS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YPICAL PROBLEM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535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erverse incentives/inefficient 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Lack of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oor clinical data (diagnoses and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Poor measures of expected cost per cas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Mistrust between funders and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oor Richard"/>
              </a:rPr>
              <a:t>Unclear vision about mid-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6945480" y="214200"/>
            <a:ext cx="120780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8259840" y="214200"/>
            <a:ext cx="884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4760" y="1981080"/>
            <a:ext cx="8604360" cy="400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txBody>
          <a:bodyPr lIns="54000" rIns="54000" tIns="44280" bIns="44280" anchor="b">
            <a:normAutofit/>
          </a:bodyPr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HOWEVER -  it's hard to agree, because data are never good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It's hard to compare locally or inter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Poor Richard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MY CASES ARE  HARDER THAN YOURS!</a:t>
            </a:r>
            <a:r>
              <a:rPr b="0" lang="ja-JP" sz="2800" spc="-1" strike="noStrike">
                <a:solidFill>
                  <a:srgbClr val="000000"/>
                </a:solidFill>
                <a:latin typeface="Poor Richard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58880" indent="-758880">
              <a:lnSpc>
                <a:spcPct val="100000"/>
              </a:lnSpc>
              <a:spcBef>
                <a:spcPts val="2801"/>
              </a:spcBef>
              <a:buClr>
                <a:srgbClr val="009999"/>
              </a:buClr>
              <a:buFont typeface="Poor Richard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or Richard"/>
              </a:rPr>
              <a:t>We are arguing about things that could and should be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Poor Richard"/>
              </a:rPr>
              <a:t>NEED TO AGREE ON FAIR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ASEMIX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TEN YEAR PROGRAM FROM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R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TA STANDARDS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TIONAL HEALTH INFORMATION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NKAGE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1 2 3 – DRG” 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on Marie Tehan MP"/>
          <p:cNvPicPr/>
          <p:nvPr/>
        </p:nvPicPr>
        <p:blipFill>
          <a:blip r:embed="rId1"/>
          <a:stretch/>
        </p:blipFill>
        <p:spPr>
          <a:xfrm>
            <a:off x="250920" y="0"/>
            <a:ext cx="179856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r Carmen Lawrence"/>
          <p:cNvPicPr/>
          <p:nvPr/>
        </p:nvPicPr>
        <p:blipFill>
          <a:blip r:embed="rId2"/>
          <a:stretch/>
        </p:blipFill>
        <p:spPr>
          <a:xfrm>
            <a:off x="1908000" y="765000"/>
            <a:ext cx="1771920" cy="236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r Steve Anderson"/>
          <p:cNvPicPr/>
          <p:nvPr/>
        </p:nvPicPr>
        <p:blipFill>
          <a:blip r:embed="rId3"/>
          <a:stretch/>
        </p:blipFill>
        <p:spPr>
          <a:xfrm>
            <a:off x="6267600" y="765000"/>
            <a:ext cx="147312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Mr David Renfrey"/>
          <p:cNvPicPr/>
          <p:nvPr/>
        </p:nvPicPr>
        <p:blipFill>
          <a:blip r:embed="rId4"/>
          <a:stretch/>
        </p:blipFill>
        <p:spPr>
          <a:xfrm>
            <a:off x="7667640" y="476280"/>
            <a:ext cx="1332000" cy="194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r Michael Walsh"/>
          <p:cNvPicPr/>
          <p:nvPr/>
        </p:nvPicPr>
        <p:blipFill>
          <a:blip r:embed="rId5"/>
          <a:stretch/>
        </p:blipFill>
        <p:spPr>
          <a:xfrm>
            <a:off x="2050920" y="3500280"/>
            <a:ext cx="1698840" cy="241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r Stephen Duckett"/>
          <p:cNvPicPr/>
          <p:nvPr/>
        </p:nvPicPr>
        <p:blipFill>
          <a:blip r:embed="rId6"/>
          <a:stretch/>
        </p:blipFill>
        <p:spPr>
          <a:xfrm>
            <a:off x="3708360" y="3068640"/>
            <a:ext cx="1494000" cy="18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Russell Schneider"/>
          <p:cNvPicPr/>
          <p:nvPr/>
        </p:nvPicPr>
        <p:blipFill>
          <a:blip r:embed="rId7"/>
          <a:stretch/>
        </p:blipFill>
        <p:spPr>
          <a:xfrm>
            <a:off x="539640" y="4365720"/>
            <a:ext cx="163836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rofessor George Palmer"/>
          <p:cNvPicPr/>
          <p:nvPr/>
        </p:nvPicPr>
        <p:blipFill>
          <a:blip r:embed="rId8"/>
          <a:stretch/>
        </p:blipFill>
        <p:spPr>
          <a:xfrm>
            <a:off x="5076720" y="2349360"/>
            <a:ext cx="1623960" cy="2117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2340000" y="602136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ECU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21164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7020000" y="184464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932360" y="8366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50920" y="1773360"/>
            <a:ext cx="151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25092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OVERNMENT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Joe Scuteri"/>
          <p:cNvPicPr/>
          <p:nvPr/>
        </p:nvPicPr>
        <p:blipFill>
          <a:blip r:embed="rId9"/>
          <a:stretch/>
        </p:blipFill>
        <p:spPr>
          <a:xfrm>
            <a:off x="5796000" y="4886280"/>
            <a:ext cx="165420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Beth Reid"/>
          <p:cNvPicPr/>
          <p:nvPr/>
        </p:nvPicPr>
        <p:blipFill>
          <a:blip r:embed="rId10"/>
          <a:stretch/>
        </p:blipFill>
        <p:spPr>
          <a:xfrm>
            <a:off x="7164360" y="3573360"/>
            <a:ext cx="1563840" cy="223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8"/>
          <p:cNvSpPr/>
          <p:nvPr/>
        </p:nvSpPr>
        <p:spPr>
          <a:xfrm>
            <a:off x="7631280" y="602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2484360" y="25416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082600" y="15732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MPLEMENTA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OM MEDICARE TO THE AUSTRALIAN HEALTHCARE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ON DATA STANDARDS – CASEMIX AND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E SIZE FITS ALL” DRGs? – THE CASE FOR LOC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MINIMUM DATASETS – WHERE DID MY DATA ITEM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FORMANCE FEEDBACK IN USEFUL TIMEFRAMES? 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EXAMPLE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4300" spc="-1" strike="noStrike">
                <a:solidFill>
                  <a:srgbClr val="000000"/>
                </a:solidFill>
                <a:latin typeface="Arial"/>
              </a:rPr>
              <a:t>EARLY IMPLEMENTATION THROUGHPU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85800" y="2176560"/>
          <a:ext cx="777240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6560"/>
                    <a:ext cx="7772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Box 1"/>
          <p:cNvSpPr/>
          <p:nvPr/>
        </p:nvSpPr>
        <p:spPr>
          <a:xfrm>
            <a:off x="1306800" y="1905120"/>
            <a:ext cx="62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CASES WITHOUT EXTRA BUDGET – LOW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ME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14560" y="1627200"/>
            <a:ext cx="67118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RGs Application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214200" y="1738440"/>
            <a:ext cx="8500680" cy="5119560"/>
            <a:chOff x="214200" y="1738440"/>
            <a:chExt cx="8500680" cy="511956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214200" y="1738440"/>
            <a:ext cx="8500680" cy="51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200" y="1738440"/>
                      <a:ext cx="8500680" cy="51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Text Box 5"/>
            <p:cNvSpPr/>
            <p:nvPr/>
          </p:nvSpPr>
          <p:spPr>
            <a:xfrm>
              <a:off x="640440" y="4138560"/>
              <a:ext cx="3145320" cy="2562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Beds: 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Inpatients: 26,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vg. Length of Stay: 6,0 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ed Turnover rate: 52 p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3784680" y="4138560"/>
              <a:ext cx="3144960" cy="24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Beds: 3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# of Inpatients: 42,8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vg. Length of Stay: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3,23 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ed Turnover rate: 113 p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6929640" y="4138560"/>
              <a:ext cx="1106640" cy="2562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4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0066"/>
                  </a:solidFill>
                  <a:latin typeface="Arial"/>
                </a:rPr>
                <a:t>% 1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3440" y="228600"/>
            <a:ext cx="773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LINICAL QUA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3440" y="1447560"/>
            <a:ext cx="773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Perforation of the colon </a:t>
            </a:r>
            <a:r>
              <a:rPr b="0" lang="en-AU" sz="24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following a colonoscopy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Anastomotic break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following large bowel resection and anastomosis for cancer of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oor Rich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- colon - rec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Bile duct injury following cholecystectomy requiring operative 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Poor Richard"/>
                <a:ea typeface="Times New Roman"/>
              </a:rPr>
              <a:t>Mortality following repair of abdominal aortic aneury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a DRG funding system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ata – coding accuracy and completeness – don’t wait for per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data – from a sample group of hospitals – can import initi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budgets and phased implementation plan with adjustment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USTRALIAN IMPLEMENTATION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The importanc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oor Richard"/>
              </a:rPr>
              <a:t>Risk management – modelle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oor Rich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Poor Richard"/>
              </a:rPr>
              <a:t>Transparency of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Learning from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Australia still refin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New challenges – solve some, others app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Poor Rich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Poor Richard"/>
              </a:rPr>
              <a:t>Some basic building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8680" y="6467400"/>
            <a:ext cx="85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ealth.gov.au/internet/wcms/publishing.nsf/Content/15033D7F2949990CCA256F1D00294D9F/$File/tbl8b_17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187280" y="1057320"/>
            <a:ext cx="7417080" cy="436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1187280" y="5589720"/>
            <a:ext cx="7417080" cy="1004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166760" y="208080"/>
            <a:ext cx="68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dmitted Patient Care Collection (NA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health.gov.au/internet/wcms/publishing.nsf/Content/health-casemix-data-collections-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47640" y="1557360"/>
            <a:ext cx="7669440" cy="258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523880" y="299880"/>
            <a:ext cx="7435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Hospital Cost Data Collection (NH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ealth.gov.au/internet/wcms/publishing.nsf/Content/health-casemix-data-collections-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0000" y="1190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96720" y="4221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611280" y="4581360"/>
            <a:ext cx="777708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57120" y="1457280"/>
          <a:ext cx="8643960" cy="4714920"/>
        </p:xfrm>
        <a:graphic>
          <a:graphicData uri="http://schemas.openxmlformats.org/drawingml/2006/table">
            <a:tbl>
              <a:tblPr/>
              <a:tblGrid>
                <a:gridCol w="306360"/>
                <a:gridCol w="1803600"/>
                <a:gridCol w="404640"/>
                <a:gridCol w="514440"/>
                <a:gridCol w="515880"/>
                <a:gridCol w="579600"/>
                <a:gridCol w="358560"/>
                <a:gridCol w="468360"/>
                <a:gridCol w="405000"/>
                <a:gridCol w="441000"/>
                <a:gridCol w="392400"/>
                <a:gridCol w="404640"/>
                <a:gridCol w="453960"/>
                <a:gridCol w="392400"/>
                <a:gridCol w="453960"/>
                <a:gridCol w="358560"/>
                <a:gridCol w="390600"/>
              </a:tblGrid>
              <a:tr h="371520">
                <a:tc gridSpan="7"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WEIGHTS FOR AR-DRG VERSION 5.0, Round 10 (2005-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 Descri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st per DRG 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omponent Cost per DRG ($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Se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Med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Nur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linical Salar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e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1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,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3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g Or Heart/Lung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5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8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6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eostomy Or Ventilation&gt;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,5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9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7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g Bone Marrow Transpl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8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Bone Marrow Transplnt+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8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Bone Marrow Transplnt-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+Pancreas/+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9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ransplant -Pancreas-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0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mo - Cardiac Surge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bation Age&lt;16+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4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bation Age&lt;16-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1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Shunt Revis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+ C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9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+ Sm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6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aniotomy - 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3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Procedures + 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3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Procedures - 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4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ranial Vascular Pr +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4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ranial Vascular Pr -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5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al Tunnel Rele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6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l Psy,Mus Dysy,Npthy Pr+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6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bl Psy,Mus Dysy,Npthy Pr-Cs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7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phl &amp; Cranl Nerv &amp; Oth Pr+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750040" y="6858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blic Sector Estm R10 06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20880" y="1050840"/>
            <a:ext cx="268416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Mean cost/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ie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m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52720" y="1050840"/>
            <a:ext cx="227340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ur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2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237360" y="1050840"/>
            <a:ext cx="2597040" cy="5462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ther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$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928800" y="1689120"/>
            <a:ext cx="7929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920880" y="5908680"/>
            <a:ext cx="79246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16292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Benchmarking by cost only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0"/>
          <p:cNvGraphicFramePr/>
          <p:nvPr/>
        </p:nvGraphicFramePr>
        <p:xfrm>
          <a:off x="4402080" y="1447920"/>
          <a:ext cx="1527120" cy="46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1447920"/>
                    <a:ext cx="152712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7"/>
          <p:cNvSpPr/>
          <p:nvPr/>
        </p:nvSpPr>
        <p:spPr>
          <a:xfrm>
            <a:off x="6037200" y="2424240"/>
            <a:ext cx="2463840" cy="1218960"/>
          </a:xfrm>
          <a:prstGeom prst="wedgeRoundRectCallout">
            <a:avLst>
              <a:gd name="adj1" fmla="val -81513"/>
              <a:gd name="adj2" fmla="val -3757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062760" y="2514600"/>
            <a:ext cx="2652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But patient 15644 was different from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824120" y="428760"/>
            <a:ext cx="3357360" cy="1218960"/>
          </a:xfrm>
          <a:prstGeom prst="wedgeRoundRectCallout">
            <a:avLst>
              <a:gd name="adj1" fmla="val -41069"/>
              <a:gd name="adj2" fmla="val 691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828800" y="380880"/>
            <a:ext cx="3533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Look! You spent too much on patient 156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3"/>
          <a:stretch/>
        </p:blipFill>
        <p:spPr>
          <a:xfrm rot="21124800">
            <a:off x="396720" y="1353600"/>
            <a:ext cx="324324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048"/>
          <p:cNvGraphicFramePr/>
          <p:nvPr/>
        </p:nvGraphicFramePr>
        <p:xfrm>
          <a:off x="3749760" y="1928880"/>
          <a:ext cx="1434960" cy="44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9760" y="1928880"/>
                    <a:ext cx="14349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AutoShape 1027"/>
          <p:cNvSpPr/>
          <p:nvPr/>
        </p:nvSpPr>
        <p:spPr>
          <a:xfrm>
            <a:off x="5410080" y="2133720"/>
            <a:ext cx="3392640" cy="1066680"/>
          </a:xfrm>
          <a:prstGeom prst="wedgeRoundRectCallout">
            <a:avLst>
              <a:gd name="adj1" fmla="val -65393"/>
              <a:gd name="adj2" fmla="val -2856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28"/>
          <p:cNvSpPr/>
          <p:nvPr/>
        </p:nvSpPr>
        <p:spPr>
          <a:xfrm>
            <a:off x="5715000" y="2286000"/>
            <a:ext cx="27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Sorry, I'll try not to do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30"/>
          <p:cNvSpPr/>
          <p:nvPr/>
        </p:nvSpPr>
        <p:spPr>
          <a:xfrm>
            <a:off x="1905120" y="152280"/>
            <a:ext cx="3504960" cy="1371600"/>
          </a:xfrm>
          <a:prstGeom prst="wedgeRoundRectCallout">
            <a:avLst>
              <a:gd name="adj1" fmla="val -47643"/>
              <a:gd name="adj2" fmla="val 9837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31"/>
          <p:cNvSpPr/>
          <p:nvPr/>
        </p:nvSpPr>
        <p:spPr>
          <a:xfrm>
            <a:off x="2104920" y="257040"/>
            <a:ext cx="3245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800" spc="-1" strike="noStrike">
                <a:solidFill>
                  <a:srgbClr val="060293"/>
                </a:solidFill>
                <a:latin typeface="Arial"/>
              </a:rPr>
              <a:t>I've checked, and patient 15644 wasn't different at 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32" descr=""/>
          <p:cNvPicPr/>
          <p:nvPr/>
        </p:nvPicPr>
        <p:blipFill>
          <a:blip r:embed="rId3"/>
          <a:stretch/>
        </p:blipFill>
        <p:spPr>
          <a:xfrm>
            <a:off x="-23760" y="1468440"/>
            <a:ext cx="35956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49200" y="1616040"/>
            <a:ext cx="3379680" cy="4776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Elements of c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tted how long before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op hours in C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of discharge plan at admi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OK dele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11760" y="1616040"/>
            <a:ext cx="2176200" cy="4780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ur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99200" y="1571760"/>
            <a:ext cx="2575080" cy="477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7b00e4"/>
                </a:solidFill>
                <a:latin typeface="Arial"/>
              </a:rPr>
              <a:t>Other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68280" y="2133720"/>
            <a:ext cx="83757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477720"/>
            <a:ext cx="8029440" cy="5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… 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nd benchmarking by clin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0478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ing feedback to hospitals on the efficiency and quality of their outputs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438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sons why hospitals want to measure what they d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to a bud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o peer benchmark with best value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best service possible to their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signals – price vs c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uses for output target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uses for performance indicator attainment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ing lists – ED – Elective surger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level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3 key components of a DRG funding system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Hospital (IP) activity by D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3520" y="1828800"/>
            <a:ext cx="8183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abulated to produce a table of hospital by D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ctivity data checked for completeness and accurate DRG assig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ospital budget data – one years estimate and/or actual expenditure by hosp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patient fractions (IFRA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hroughput payment proportion or components (eg if salaries not included need to be taken ou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costweigh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ayment mod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BUDGET/EXPENDITUR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LED 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llocation of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s for specific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rvi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s on discretiona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of funding/payment -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THREE MUSTS OF CS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6421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START FROM WHERE YOU 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ECIDE WHERE YOU WANT TO 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AKE ACHIEVABLE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MCj04315450000[1]"/>
          <p:cNvPicPr/>
          <p:nvPr/>
        </p:nvPicPr>
        <p:blipFill>
          <a:blip r:embed="rId1"/>
          <a:stretch/>
        </p:blipFill>
        <p:spPr>
          <a:xfrm>
            <a:off x="6858000" y="1700280"/>
            <a:ext cx="2286000" cy="120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MCBD07810_0000[1]"/>
          <p:cNvPicPr/>
          <p:nvPr/>
        </p:nvPicPr>
        <p:blipFill>
          <a:blip r:embed="rId2"/>
          <a:stretch/>
        </p:blipFill>
        <p:spPr>
          <a:xfrm>
            <a:off x="7074000" y="4708440"/>
            <a:ext cx="1584360" cy="17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MPj04229500000[1]"/>
          <p:cNvPicPr/>
          <p:nvPr/>
        </p:nvPicPr>
        <p:blipFill>
          <a:blip r:embed="rId3"/>
          <a:stretch/>
        </p:blipFill>
        <p:spPr>
          <a:xfrm>
            <a:off x="7236000" y="2924280"/>
            <a:ext cx="1601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efficiency and quality of health servic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weighted unit of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dicators o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hospital acquired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g milestone indicators – SF21 – satisfac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ompliance with best practic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cal experience with 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DO YOU DO WITHOUT CASEM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DDAY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CHARGE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ROUD W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BAL BUDGETS AND TOP-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RVI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LUE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320" y="1373040"/>
            <a:ext cx="9144000" cy="5484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045880" y="776160"/>
            <a:ext cx="66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ihw.gov.au/publications/health/ihhac/ihhac-c06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BUT OUR HOSPITAL GETS ALL THE DIFFICULT CASES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SURING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ANY HOSPITALS DO YOU NEED -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MANY MRI SCANNERS DO YOU NEED -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989000"/>
          <a:ext cx="8785440" cy="2494080"/>
        </p:xfrm>
        <a:graphic>
          <a:graphicData uri="http://schemas.openxmlformats.org/drawingml/2006/table">
            <a:tbl>
              <a:tblPr/>
              <a:tblGrid>
                <a:gridCol w="3672000"/>
                <a:gridCol w="792000"/>
                <a:gridCol w="1152720"/>
                <a:gridCol w="873000"/>
                <a:gridCol w="855720"/>
                <a:gridCol w="677880"/>
                <a:gridCol w="762120"/>
              </a:tblGrid>
              <a:tr h="75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.S.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opul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care expenditure/GDP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218"/>
          <p:cNvSpPr/>
          <p:nvPr/>
        </p:nvSpPr>
        <p:spPr>
          <a:xfrm>
            <a:off x="271440" y="5105520"/>
            <a:ext cx="86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209.85.135.104/search?q=cache:Uscfbb-xVvgJ:www.stat.go.jp/english/data/figures/zuhyou/1696.xls+beds+per+1000+international&amp;hl=en&amp;ct=clnk&amp;cd=5&amp;gl=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OTHER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022040" y="5486400"/>
            <a:ext cx="67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THESE MEASURES REALLY LIKE WITH LIKE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08:48Z</dcterms:modified>
  <cp:revision>124</cp:revision>
  <dc:subject/>
  <dc:title>Наслов</dc:title>
</cp:coreProperties>
</file>