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BA1-450A-4FD0-9DEC-63554AC7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576-82BC-4EDC-9DB6-F387C43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388-0B86-4B66-916E-606FD647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34B-7FA8-49CE-8419-51AC42A4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C67-4974-4D27-9304-ED38D5A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A03-9A02-4239-AA24-B17D35D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8EC-285D-4AF5-AA75-6EE2C2A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A06-572F-4786-A6EC-0CDB13DA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015-77DC-4202-B242-B2E1A14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921-691E-4D11-8EF2-5E72CD3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857-D819-4C42-9153-1430A22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C39-3100-4F88-8CB8-832BF9C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42BB-5287-4F0D-9F79-9C4336D7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ealth.gov.au/internet/main/publishing.nsf/Content/0FABA9D6DB24D7E8CA257712000C5D3C/$File/HospitalPatientCostingStandards_v1.1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les of costing by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900 FRI 9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Costing Standards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89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ians are the control locus of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inical decision is an expenditure deci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 must be able to provide feedback to clinicians on comparative use of resource (cost) with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normative (peer hospitals) and best practice standards (clinical pathw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hospitals being able to analyse their costs of produc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total expenditure of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ken into overhead and di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PATIENT FRACTION IS APPLIED *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eith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costs are attributed to treatment units. Then become part of direct costs of treating patient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costs are attributed to patients according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ervice utilis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patient costs allocated according to utilisation (activity)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fully absorbed costing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centres in general led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staff 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floor space, utilty access points, service ti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diagnostics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units of service provided (eg beddays, consult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ati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penditure fr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nything can be a direct cost if individual patient utilisation is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st centres provide services to other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have a standard sequence of distributing the costs of overhead cost centres to other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costs and overhea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method of cost disaggregation from total hospital expenditure to patient episode or D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a set sequence of disaggregation from overhead cost centres to ‘intermediate product’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s from intermediate products to patients according to utilisation or service we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ale cos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meal per patient per day for ward x compared to hospital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Xray A compared to othe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hour of nursing service in ICU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on cost for operation x compared to other surg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products of interest to hospital managers –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urpose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determine the costs of service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order to better manage the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ource Management / 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velopment of cos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pisode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aying for contracted work – eg referr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ternal Report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nical 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ottom up costing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ch patient episode is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quires data of all goods and services consumed in the treatment of individual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 are then converted into cost estimates for each patient by reference to measures of the relative costs of providing thes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llows analysis of resource use by individual patient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st Mod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enditure is allocated to groups of patients in each DRG based on measures of average consumption for the patients in each D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ies on the use of service we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/or other generalised utilisation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session will provide participants with an introduction to the information needs f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mprehensive case mix costing by case for hospi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ill also introduce the different ways in which case mix can be applied to foster greater efficiency in health service provision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tient costing provides detail at the individual patient epis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sier to apply patient costing to other patie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tient costing systems are a good 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oice between the methodologies is dependent on information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vailable costing syst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st systems, available currently use both methods of 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precision is obtained by increasing  clinical cost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re patient costing is not (always) fea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eeders can b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kills are not alwa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hybrid of clinical costing (preferred) and cost modelling (default) is usually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ICS UK 2010 hospital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95 acute organisations have either implemented a PLICS system, or are in the process of implementing a PLIC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a further 20 acute organisations are planning to implement PLICS in the nex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51 organisations who have implemented PLICS,45 report that they have used PLICS data to inform their 2009/10 reference cost retu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arly 90% of those organisations who have implemented a PLICS system, or are in the process of implementing a PLICS system report that they are using the Acut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linical Costing Standar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ose planning not to implement PLICS, 31 are acute providers, with the remainder being PCT, Community, Ambulance and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up or planned take of PLICS in the non-acute sector is primarily by Mental Health 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ost allo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774800" y="1936440"/>
            <a:ext cx="2741760" cy="73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6666"/>
                </a:solidFill>
                <a:latin typeface="Arial"/>
              </a:rPr>
              <a:t>Recurrent Expendi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" y="3132720"/>
            <a:ext cx="4676760" cy="73692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16168e"/>
                </a:solidFill>
                <a:latin typeface="Arial"/>
              </a:rPr>
              <a:t>Allocation Overhead Costs to Patient Care Cost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40200" y="4353840"/>
            <a:ext cx="3807720" cy="4168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3333cc"/>
                </a:solidFill>
                <a:latin typeface="Arial"/>
              </a:rPr>
              <a:t>Remove non-Inpatient Co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7209000" y="1902600"/>
            <a:ext cx="1935000" cy="110484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500" spc="-1" strike="noStrike">
                <a:solidFill>
                  <a:srgbClr val="000000"/>
                </a:solidFill>
                <a:latin typeface="Arial"/>
              </a:rPr>
              <a:t>GL costs, FTEs, Floor sp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6643800" y="3279600"/>
            <a:ext cx="2500200" cy="11048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500" spc="-1" strike="noStrike">
                <a:solidFill>
                  <a:srgbClr val="0d238f"/>
                </a:solidFill>
                <a:latin typeface="Arial"/>
              </a:rPr>
              <a:t>Outpatients,  Teaching and Resear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806400" y="5238720"/>
            <a:ext cx="4676760" cy="41688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9e0676"/>
                </a:solidFill>
                <a:latin typeface="Arial"/>
              </a:rPr>
              <a:t>Patient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87400" y="6126120"/>
            <a:ext cx="4595760" cy="41688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7f7"/>
                </a:solidFill>
                <a:latin typeface="Arial"/>
              </a:rPr>
              <a:t>Allocate Final Costs to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952880" y="1906560"/>
            <a:ext cx="2257560" cy="96516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7f7"/>
                </a:solidFill>
                <a:latin typeface="Arial"/>
              </a:rPr>
              <a:t>Overhead Allocation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6400" y="3125880"/>
            <a:ext cx="1693800" cy="14054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3333cc"/>
                </a:solidFill>
                <a:latin typeface="Arial"/>
              </a:rPr>
              <a:t>Program Fr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3333cc"/>
                </a:solidFill>
                <a:latin typeface="Arial"/>
              </a:rPr>
              <a:t>Inpatient Fr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943600" y="5105520"/>
            <a:ext cx="2903400" cy="386280"/>
          </a:xfrm>
          <a:prstGeom prst="rect">
            <a:avLst/>
          </a:prstGeom>
          <a:solidFill>
            <a:srgbClr val="ff99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7f7"/>
                </a:solidFill>
                <a:latin typeface="Arial"/>
              </a:rPr>
              <a:t>Weights/Utilis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3063960" y="2739960"/>
            <a:ext cx="0" cy="322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063960" y="394956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6"/>
          <p:cNvCxnSpPr>
            <a:stCxn id="105" idx="1"/>
          </p:cNvCxnSpPr>
          <p:nvPr/>
        </p:nvCxnSpPr>
        <p:spPr>
          <a:xfrm flipH="1">
            <a:off x="3742920" y="2398680"/>
            <a:ext cx="1210320" cy="720000"/>
          </a:xfrm>
          <a:prstGeom prst="straightConnector1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</p:cxnSp>
      <p:sp>
        <p:nvSpPr>
          <p:cNvPr id="111" name="Line 17"/>
          <p:cNvSpPr/>
          <p:nvPr/>
        </p:nvSpPr>
        <p:spPr>
          <a:xfrm>
            <a:off x="3063960" y="483552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3063960" y="572292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5079600" y="3581280"/>
            <a:ext cx="406440" cy="932040"/>
          </a:xfrm>
          <a:prstGeom prst="line">
            <a:avLst/>
          </a:prstGeom>
          <a:ln w="2844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H="1">
            <a:off x="5410080" y="5257800"/>
            <a:ext cx="534960" cy="376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998800"/>
            <a:ext cx="10482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262080" y="2998800"/>
            <a:ext cx="9957960" cy="1256760"/>
            <a:chOff x="262080" y="2998800"/>
            <a:chExt cx="9957960" cy="1256760"/>
          </a:xfrm>
        </p:grpSpPr>
        <p:sp>
          <p:nvSpPr>
            <p:cNvPr id="117" name="Rectangle 23"/>
            <p:cNvSpPr/>
            <p:nvPr/>
          </p:nvSpPr>
          <p:spPr>
            <a:xfrm>
              <a:off x="262080" y="29988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262080" y="2998800"/>
              <a:ext cx="99579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7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5"/>
          <p:cNvSpPr/>
          <p:nvPr/>
        </p:nvSpPr>
        <p:spPr>
          <a:xfrm>
            <a:off x="0" y="2998800"/>
            <a:ext cx="10482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262080" y="2998800"/>
            <a:ext cx="9957960" cy="1256760"/>
            <a:chOff x="262080" y="2998800"/>
            <a:chExt cx="9957960" cy="1256760"/>
          </a:xfrm>
        </p:grpSpPr>
        <p:sp>
          <p:nvSpPr>
            <p:cNvPr id="121" name="Rectangle 27"/>
            <p:cNvSpPr/>
            <p:nvPr/>
          </p:nvSpPr>
          <p:spPr>
            <a:xfrm>
              <a:off x="262080" y="29988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262080" y="2998800"/>
              <a:ext cx="99579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current Expend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ral Ledg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enses 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rsing sa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edical/surgical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oup these into overhead and patient care cos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verhead Alloca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s or estimates the cost of the services provided by one cost centre to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eaning costs are often distributed by cleaning staff rosters or floo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uman Resources – staff head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ciprocal Alloc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1773360"/>
            <a:ext cx="10482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629160" y="3062160"/>
            <a:ext cx="2095200" cy="40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379440" indent="-379440" algn="ctr">
              <a:spcBef>
                <a:spcPts val="2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537960" y="3949560"/>
            <a:ext cx="134496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542240" y="4030560"/>
            <a:ext cx="234612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044960" y="5238720"/>
            <a:ext cx="178560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ard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919760" y="3546360"/>
            <a:ext cx="0" cy="16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3789360" y="4513320"/>
            <a:ext cx="4842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5724360" y="4433760"/>
            <a:ext cx="1290960" cy="8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5724360" y="3465360"/>
            <a:ext cx="88740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032360" y="4272120"/>
            <a:ext cx="241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H="1">
            <a:off x="2579400" y="3305160"/>
            <a:ext cx="1049400" cy="72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1452600" y="3365640"/>
            <a:ext cx="563400" cy="374400"/>
          </a:xfrm>
          <a:custGeom>
            <a:avLst/>
            <a:gdLst>
              <a:gd name="textAreaLeft" fmla="*/ 112680 w 563400"/>
              <a:gd name="textAreaRight" fmla="*/ 413280 w 563400"/>
              <a:gd name="textAreaTop" fmla="*/ 50040 h 374400"/>
              <a:gd name="textAreaBottom" fmla="*/ 324360 h 37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5" hR="21600" stAng="10800000" swAng="5400000"/>
                <a:lnTo>
                  <a:pt x="11519" y="0"/>
                </a:lnTo>
                <a:arcTo wR="8645" hR="21600" stAng="-5400000" swAng="2686277"/>
                <a:lnTo>
                  <a:pt x="20972" y="13519"/>
                </a:lnTo>
                <a:lnTo>
                  <a:pt x="18726" y="21600"/>
                </a:lnTo>
                <a:lnTo>
                  <a:pt x="15224" y="13519"/>
                </a:lnTo>
                <a:lnTo>
                  <a:pt x="16661" y="13519"/>
                </a:lnTo>
                <a:arcTo wR="8645" hR="21600" stAng="-2713723" swAng="-2454695"/>
                <a:lnTo>
                  <a:pt x="10082" y="301"/>
                </a:lnTo>
                <a:arcTo wR="8645" hR="21600" stAng="-5631582" swAng="-5168418"/>
                <a:close/>
              </a:path>
              <a:path fill="darkenLess" w="21600" h="21600">
                <a:moveTo>
                  <a:pt x="0" y="21600"/>
                </a:moveTo>
                <a:arcTo wR="8645" hR="21600" stAng="10800000" swAng="5400000"/>
                <a:lnTo>
                  <a:pt x="8645" y="0"/>
                </a:lnTo>
                <a:arcTo wR="8645" hR="21600" stAng="-5400000" swAng="231582"/>
                <a:lnTo>
                  <a:pt x="10082" y="301"/>
                </a:lnTo>
                <a:arcTo wR="8645" hR="21600" stAng="-5631582" swAng="-5168418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854360" y="604512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467160" y="2394000"/>
            <a:ext cx="563400" cy="374760"/>
          </a:xfrm>
          <a:custGeom>
            <a:avLst/>
            <a:gdLst>
              <a:gd name="textAreaLeft" fmla="*/ 112680 w 563400"/>
              <a:gd name="textAreaRight" fmla="*/ 413280 w 563400"/>
              <a:gd name="textAreaTop" fmla="*/ 50040 h 374760"/>
              <a:gd name="textAreaBottom" fmla="*/ 3247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5" hR="21600" stAng="10800000" swAng="5400000"/>
                <a:lnTo>
                  <a:pt x="11519" y="0"/>
                </a:lnTo>
                <a:arcTo wR="8645" hR="21600" stAng="-5400000" swAng="2686277"/>
                <a:lnTo>
                  <a:pt x="20972" y="13519"/>
                </a:lnTo>
                <a:lnTo>
                  <a:pt x="18726" y="21600"/>
                </a:lnTo>
                <a:lnTo>
                  <a:pt x="15224" y="13519"/>
                </a:lnTo>
                <a:lnTo>
                  <a:pt x="16661" y="13519"/>
                </a:lnTo>
                <a:arcTo wR="8645" hR="21600" stAng="-2713723" swAng="-2454695"/>
                <a:lnTo>
                  <a:pt x="10082" y="301"/>
                </a:lnTo>
                <a:arcTo wR="8645" hR="21600" stAng="-5631582" swAng="-5168418"/>
                <a:close/>
              </a:path>
              <a:path fill="darkenLess" w="21600" h="21600">
                <a:moveTo>
                  <a:pt x="0" y="21600"/>
                </a:moveTo>
                <a:arcTo wR="8645" hR="21600" stAng="10800000" swAng="5400000"/>
                <a:lnTo>
                  <a:pt x="8645" y="0"/>
                </a:lnTo>
                <a:arcTo wR="8645" hR="21600" stAng="-5400000" swAng="231582"/>
                <a:lnTo>
                  <a:pt x="10082" y="301"/>
                </a:lnTo>
                <a:arcTo wR="8645" hR="21600" stAng="-5631582" swAng="-5168418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 flipH="1">
            <a:off x="7499520" y="3281400"/>
            <a:ext cx="403200" cy="374760"/>
          </a:xfrm>
          <a:custGeom>
            <a:avLst/>
            <a:gdLst>
              <a:gd name="textAreaLeft" fmla="*/ 72720 w 403200"/>
              <a:gd name="textAreaRight" fmla="*/ 293040 w 403200"/>
              <a:gd name="textAreaTop" fmla="*/ 50040 h 374760"/>
              <a:gd name="textAreaBottom" fmla="*/ 3247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89" hR="21600" stAng="10800000" swAng="5400000"/>
                <a:lnTo>
                  <a:pt x="11804" y="0"/>
                </a:lnTo>
                <a:arcTo wR="7789" hR="21600" stAng="-5400000" swAng="1828289"/>
                <a:lnTo>
                  <a:pt x="20452" y="10313"/>
                </a:lnTo>
                <a:lnTo>
                  <a:pt x="17586" y="21600"/>
                </a:lnTo>
                <a:lnTo>
                  <a:pt x="12423" y="10313"/>
                </a:lnTo>
                <a:lnTo>
                  <a:pt x="14430" y="10313"/>
                </a:lnTo>
                <a:arcTo wR="7789" hR="21600" stAng="-3571711" swAng="-1498628"/>
                <a:lnTo>
                  <a:pt x="9797" y="730"/>
                </a:lnTo>
                <a:arcTo wR="7789" hR="21600" stAng="-5729661" swAng="-5070339"/>
                <a:close/>
              </a:path>
              <a:path fill="darkenLess" w="21600" h="21600">
                <a:moveTo>
                  <a:pt x="0" y="21600"/>
                </a:moveTo>
                <a:arcTo wR="7789" hR="21600" stAng="10800000" swAng="5400000"/>
                <a:lnTo>
                  <a:pt x="7789" y="0"/>
                </a:lnTo>
                <a:arcTo wR="7789" hR="21600" stAng="-5400000" swAng="329661"/>
                <a:lnTo>
                  <a:pt x="9797" y="730"/>
                </a:lnTo>
                <a:arcTo wR="7789" hR="21600" stAng="-5729661" swAng="-5070339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ogram Fractions / Inpatient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move cost data that does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 have pati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on-inpatien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aching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locate Final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Calibri"/>
              </a:rPr>
              <a:t>Use service weights or utilisation dat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Measure of the relative resource utilisation by DRG for patient services where data on actual resource use is not kn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Estimated or actual cost and utilisation of serv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verage cost by D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stimated cost by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tailed service utilisation data by pat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ports give average utilisation of major servic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nurs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theatr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drug/imaging/patholog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costing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standard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ormation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ng expenditure from accounts to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uses of patient co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 between costing and pr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ASYS – COMBO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visasys.com.au/product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HEALTH SOLUTIONS – P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powerhealthsolutions.com/products/PPM/CostManager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NDS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yardleyconsulting.com/hospital-cost-accounting/90-hosptial-activity-based-coting-abc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YPSYS – SUNRISE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clipsys.com/cb6d5ab4-2a9b-4117-86f8.../downloa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MADE SOLUTIONS – eg SAS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ook at a costweight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069280" y="312408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CDC PUBLIC COSTWEIGHT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3 PubCWest60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650880" y="5238720"/>
            <a:ext cx="777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ealth.gov.au/internet/main/publishing.nsf/Content/Round_13-cost-repo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ES OF PATIENT COS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AND CASE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EFFICIENCY AND QUALITY OF HOSPI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LETE OUTPU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ERMEDIAT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OPTIMISATION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is ONE input into price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, median cost, marginal cost can all be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, fixed and variable or full economic cost may be relevant for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PRICE IS BUDGE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lationship between costs and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Title 2"/>
          <p:cNvSpPr/>
          <p:nvPr/>
        </p:nvSpPr>
        <p:spPr>
          <a:xfrm>
            <a:off x="1371600" y="274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per case – botto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977760" y="1219320"/>
            <a:ext cx="717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based –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683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alia National hospital cost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14240" y="1600200"/>
          <a:ext cx="7715520" cy="4525920"/>
        </p:xfrm>
        <a:graphic>
          <a:graphicData uri="http://schemas.openxmlformats.org/drawingml/2006/table">
            <a:tbl>
              <a:tblPr/>
              <a:tblGrid>
                <a:gridCol w="271440"/>
                <a:gridCol w="1629000"/>
                <a:gridCol w="368280"/>
                <a:gridCol w="465120"/>
                <a:gridCol w="465120"/>
                <a:gridCol w="523800"/>
                <a:gridCol w="319320"/>
                <a:gridCol w="426960"/>
                <a:gridCol w="368280"/>
                <a:gridCol w="396720"/>
                <a:gridCol w="349200"/>
                <a:gridCol w="368280"/>
                <a:gridCol w="406440"/>
                <a:gridCol w="349200"/>
                <a:gridCol w="406440"/>
                <a:gridCol w="320760"/>
                <a:gridCol w="281160"/>
              </a:tblGrid>
              <a:tr h="289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iln/Cranio Mult Sig Trau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9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ne Dis&amp;Sp Arth A&gt;74/+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3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sorders Of The Eye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8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urg Spinal Disorders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 For Penetratng Eye Inju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irc Sys O.R. Pr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 Para/Quad+/-Or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6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Health Treat+Samedy-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mb Pr+Ulcr/Cels-Ccc-Graf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6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2000-2499G-Sg Op-Pr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Inj Lwr Lmb A&gt;59/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Procedures + 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ia Procedures A&lt;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sphs,Gastr&amp;Mis Dg D A&gt;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9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lbow, Forearm Pro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gnancy Fem Reprod Sys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Sys Dx+Ventilator Suppo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5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 Sh,Arm,Elb,Kn,Leg A&gt;64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3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r,Tib,Fib,Ank Pr A&lt;60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nrtv Nerv Sys Dis A&gt;5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&gt;2499G+Sig Or Pr-Mm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gestive System Diag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c Dsrd+Ami+Inva Inve Pr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ucoma/Cx Cataract Procs,S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traumatic Stupor &amp; Co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Shunt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nate, Admission Wt &lt;750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9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62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Up -Endosc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0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r Small &amp; Large Bowel Pr 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 Shunt Pr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ardiothor Pr-Pmp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6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Other Injuries + 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Box 6"/>
          <p:cNvSpPr/>
          <p:nvPr/>
        </p:nvSpPr>
        <p:spPr>
          <a:xfrm>
            <a:off x="55080" y="1676520"/>
            <a:ext cx="288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 HOSPITAL COST DATA COLLEC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WEIGHTS FOR AR-DRG VERSION 5.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nd 11 (2006-07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CDC Reporting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008160" y="1523880"/>
            <a:ext cx="567864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 flipV="1" rot="10800000">
            <a:off x="304920" y="260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.gov.au/internet/main/publishing.nsf/Content/0FABA9D6DB24D7E8CA257712000C5D3C/$File/HospitalPatientCostingStandards_v1.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clinical co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ly value products – eg DRG’s for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weights for funding and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analysis in weighted activit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our hospital against others an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manage performance – care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chievement targets – ‘match the above average performers over the next two year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8T11:36:41Z</dcterms:modified>
  <cp:revision>122</cp:revision>
  <dc:subject/>
  <dc:title>Наслов</dc:title>
</cp:coreProperties>
</file>