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CF28F-19C4-4A04-8AB4-CB00DEB2B31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06E0C-EAFE-434C-A2B4-767003179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61094-2AAD-466A-8983-7C11B36AB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160E9-8E27-4C87-8005-6BAAB8A2E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E7E1-0C30-42AE-BABC-3E794C3C6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8AA76-1BD0-4640-8615-4FFC72F7C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1F16D-21A9-4A2B-9703-5498D2DA0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2DEC6-6F6C-4C39-9A87-39033802E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9C747-6AF5-47DD-8A1B-A3777255E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6FCC3-C6A7-4D9D-A13B-314D685C8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6FA28-37A6-4B84-BDDF-FD20FD872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7F7FA-6590-4EA6-B4FB-F96BBF0AF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8C5FE-3807-46BA-A672-5A18147ED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FE65-A35D-4651-971D-AA378CFE4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ACFF-04C6-435D-BD44-330C162B1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7950-2BA1-488E-9563-A0873B098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E3AA-9D5F-42DD-B53F-3013A2AE3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F666-248C-47C0-A488-BE9E37729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39BE-DAE9-4404-9615-BCE3E908A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6360-183A-4429-8C18-5CAA2ADB3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F056-D770-4065-A850-2F41DBAD9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2BA3-7DCD-4831-AE00-260F4D726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6F50-9B62-47DD-BC90-4F6FBDDB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5D66-4B61-4183-A965-F52E28BC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5124-1C28-43EC-8345-E9FFED20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BEC83-E332-493F-B824-BF5D0EBE8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logo2"/>
          <p:cNvPicPr/>
          <p:nvPr/>
        </p:nvPicPr>
        <p:blipFill>
          <a:blip r:embed="rId2">
            <a:alphaModFix amt="0"/>
          </a:blip>
          <a:srcRect l="0" t="0" r="0" b="26913"/>
          <a:stretch/>
        </p:blipFill>
        <p:spPr>
          <a:xfrm>
            <a:off x="-3816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1"/>
          <p:cNvSpPr/>
          <p:nvPr/>
        </p:nvSpPr>
        <p:spPr>
          <a:xfrm>
            <a:off x="1676520" y="6172200"/>
            <a:ext cx="571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erbia Health Project – Additional Financing</a:t>
            </a:r>
            <a:r>
              <a:rPr b="1" lang="sr-C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06060"/>
                </a:solidFill>
                <a:latin typeface="Calibri"/>
              </a:rPr>
              <a:t>Training for Trainers on AR-DRG, 05-09.12.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2774880" y="2781360"/>
            <a:ext cx="3594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4" descr="pravi_grb"/>
          <p:cNvPicPr/>
          <p:nvPr/>
        </p:nvPicPr>
        <p:blipFill>
          <a:blip r:embed="rId3"/>
          <a:stretch/>
        </p:blipFill>
        <p:spPr>
          <a:xfrm>
            <a:off x="533520" y="0"/>
            <a:ext cx="571320" cy="990720"/>
          </a:xfrm>
          <a:prstGeom prst="rect">
            <a:avLst/>
          </a:prstGeom>
          <a:ln w="0">
            <a:noFill/>
          </a:ln>
        </p:spPr>
      </p:pic>
      <p:grpSp>
        <p:nvGrpSpPr>
          <p:cNvPr id="9" name="Group 47"/>
          <p:cNvGrpSpPr/>
          <p:nvPr/>
        </p:nvGrpSpPr>
        <p:grpSpPr>
          <a:xfrm>
            <a:off x="0" y="990720"/>
            <a:ext cx="1676520" cy="365040"/>
            <a:chOff x="0" y="990720"/>
            <a:chExt cx="1676520" cy="365040"/>
          </a:xfrm>
        </p:grpSpPr>
        <p:sp>
          <p:nvSpPr>
            <p:cNvPr id="10" name=""/>
            <p:cNvSpPr/>
            <p:nvPr/>
          </p:nvSpPr>
          <p:spPr>
            <a:xfrm>
              <a:off x="0" y="990720"/>
              <a:ext cx="1676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</a:rPr>
                <a:t>Република Србиј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alibri"/>
                </a:rPr>
                <a:t>МИНИСТАРСТВО ЗДРАВЉ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0" y="990720"/>
              <a:ext cx="0" cy="36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90720"/>
              <a:ext cx="0" cy="36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990720"/>
              <a:ext cx="1676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355760"/>
              <a:ext cx="1676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7320" y="3700440"/>
            <a:ext cx="8675640" cy="16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 Marsh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.45 - 15.30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uesday, </a:t>
            </a:r>
            <a:r>
              <a:rPr b="1" i="1" lang="uz-Cyrl-UZ" sz="2400" spc="-1" strike="noStrike">
                <a:solidFill>
                  <a:srgbClr val="000000"/>
                </a:solidFill>
                <a:latin typeface="Arial"/>
              </a:rPr>
              <a:t>6th December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ming and Sub-acute patient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ud is repeated offences with int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ud is knowing violation of reporting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ud is materially profiting from systematic ‘mistakes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ud is attempting to hide payments claimed that do not relate to a real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difference between gaming and frau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these issues be addressed in Serb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done now about professional revie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s fraud detected and controll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er cases” administrative discharges and readmission in Hung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of care type in NS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ty cases” in Slove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mitting cases in Emergency Departments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?can these be legitima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rating additional data counts for more fun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Oval 3"/>
          <p:cNvSpPr/>
          <p:nvPr/>
        </p:nvSpPr>
        <p:spPr>
          <a:xfrm>
            <a:off x="1928880" y="2143080"/>
            <a:ext cx="4714920" cy="4000680"/>
          </a:xfrm>
          <a:prstGeom prst="ellipse">
            <a:avLst/>
          </a:prstGeom>
          <a:solidFill>
            <a:srgbClr val="d1d1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DR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IN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traight Connector 5"/>
          <p:cNvSpPr/>
          <p:nvPr/>
        </p:nvSpPr>
        <p:spPr>
          <a:xfrm>
            <a:off x="2643120" y="5286240"/>
            <a:ext cx="328608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124800" y="5500800"/>
            <a:ext cx="31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SAME DAY IN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traight Connector 10"/>
          <p:cNvSpPr/>
          <p:nvPr/>
        </p:nvSpPr>
        <p:spPr>
          <a:xfrm flipH="1" flipV="1">
            <a:off x="2617920" y="2730240"/>
            <a:ext cx="1440" cy="2827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traight Connector 13"/>
          <p:cNvSpPr/>
          <p:nvPr/>
        </p:nvSpPr>
        <p:spPr>
          <a:xfrm flipV="1">
            <a:off x="5930280" y="2728440"/>
            <a:ext cx="21960" cy="28148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traight Connector 19"/>
          <p:cNvSpPr/>
          <p:nvPr/>
        </p:nvSpPr>
        <p:spPr>
          <a:xfrm>
            <a:off x="2643120" y="2714760"/>
            <a:ext cx="328608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2"/>
          <p:cNvSpPr/>
          <p:nvPr/>
        </p:nvSpPr>
        <p:spPr>
          <a:xfrm>
            <a:off x="3562920" y="2214720"/>
            <a:ext cx="186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ED 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ight Arrow 23"/>
          <p:cNvSpPr/>
          <p:nvPr/>
        </p:nvSpPr>
        <p:spPr>
          <a:xfrm>
            <a:off x="2556000" y="3714840"/>
            <a:ext cx="285480" cy="642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ight Arrow 24"/>
          <p:cNvSpPr/>
          <p:nvPr/>
        </p:nvSpPr>
        <p:spPr>
          <a:xfrm>
            <a:off x="5799240" y="3714840"/>
            <a:ext cx="285480" cy="642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ight Arrow 25"/>
          <p:cNvSpPr/>
          <p:nvPr/>
        </p:nvSpPr>
        <p:spPr>
          <a:xfrm rot="5400000">
            <a:off x="4071240" y="2393280"/>
            <a:ext cx="285840" cy="642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ight Arrow 26"/>
          <p:cNvSpPr/>
          <p:nvPr/>
        </p:nvSpPr>
        <p:spPr>
          <a:xfrm rot="5400000">
            <a:off x="4107600" y="4964760"/>
            <a:ext cx="285480" cy="642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4"/>
          <p:cNvSpPr/>
          <p:nvPr/>
        </p:nvSpPr>
        <p:spPr>
          <a:xfrm>
            <a:off x="1143000" y="714240"/>
            <a:ext cx="7772400" cy="764280"/>
          </a:xfrm>
          <a:prstGeom prst="rect">
            <a:avLst/>
          </a:prstGeom>
          <a:noFill/>
          <a:ln w="63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DEFINITIONS AND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triped Right Arrow 15"/>
          <p:cNvSpPr/>
          <p:nvPr/>
        </p:nvSpPr>
        <p:spPr>
          <a:xfrm rot="5400000">
            <a:off x="2142720" y="1857240"/>
            <a:ext cx="1143000" cy="7146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triped Right Arrow 16"/>
          <p:cNvSpPr/>
          <p:nvPr/>
        </p:nvSpPr>
        <p:spPr>
          <a:xfrm rot="5400000">
            <a:off x="5428800" y="1785600"/>
            <a:ext cx="1000080" cy="7146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Curved Right Arrow 20"/>
          <p:cNvSpPr/>
          <p:nvPr/>
        </p:nvSpPr>
        <p:spPr>
          <a:xfrm rot="18917400">
            <a:off x="1149120" y="1442520"/>
            <a:ext cx="1106280" cy="2100600"/>
          </a:xfrm>
          <a:custGeom>
            <a:avLst/>
            <a:gdLst>
              <a:gd name="textAreaLeft" fmla="*/ 147960 w 1106280"/>
              <a:gd name="textAreaRight" fmla="*/ 958320 w 1106280"/>
              <a:gd name="textAreaTop" fmla="*/ 421200 h 2100600"/>
              <a:gd name="textAreaBottom" fmla="*/ 1540800 h 210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7" stAng="-5400000" swAng="-5400000"/>
                <a:lnTo>
                  <a:pt x="0" y="11511"/>
                </a:lnTo>
                <a:arcTo wR="21600" hR="8667" stAng="10800000" swAng="-3434266"/>
                <a:lnTo>
                  <a:pt x="16200" y="21325"/>
                </a:lnTo>
                <a:lnTo>
                  <a:pt x="21600" y="18755"/>
                </a:lnTo>
                <a:lnTo>
                  <a:pt x="16200" y="15635"/>
                </a:lnTo>
                <a:lnTo>
                  <a:pt x="16200" y="17058"/>
                </a:lnTo>
                <a:arcTo wR="21600" hR="8667" stAng="7365734" swAng="3205178"/>
                <a:lnTo>
                  <a:pt x="293" y="10088"/>
                </a:lnTo>
                <a:arcTo wR="21600" hR="8667" stAng="-10570912" swAng="5170912"/>
                <a:close/>
              </a:path>
              <a:path fill="darkenLess" w="21600" h="21600">
                <a:moveTo>
                  <a:pt x="21600" y="0"/>
                </a:moveTo>
                <a:arcTo wR="21600" hR="8667" stAng="-5400000" swAng="-5400000"/>
                <a:lnTo>
                  <a:pt x="0" y="8667"/>
                </a:lnTo>
                <a:arcTo wR="21600" hR="8667" stAng="10800000" swAng="-229088"/>
                <a:lnTo>
                  <a:pt x="293" y="10088"/>
                </a:lnTo>
                <a:arcTo wR="21600" hR="8667" stAng="-10570912" swAng="5170912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Curved Right Arrow 21"/>
          <p:cNvSpPr/>
          <p:nvPr/>
        </p:nvSpPr>
        <p:spPr>
          <a:xfrm flipH="1" rot="3004200">
            <a:off x="6356880" y="1520280"/>
            <a:ext cx="1044720" cy="2121840"/>
          </a:xfrm>
          <a:custGeom>
            <a:avLst/>
            <a:gdLst>
              <a:gd name="textAreaLeft" fmla="*/ 139680 w 1044720"/>
              <a:gd name="textAreaRight" fmla="*/ 905040 w 1044720"/>
              <a:gd name="textAreaTop" fmla="*/ 432360 h 2121840"/>
              <a:gd name="textAreaBottom" fmla="*/ 1558800 h 2121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807" stAng="-5400000" swAng="-5400000"/>
                <a:lnTo>
                  <a:pt x="0" y="11464"/>
                </a:lnTo>
                <a:arcTo wR="21600" hR="8807" stAng="10800000" swAng="-3459340"/>
                <a:lnTo>
                  <a:pt x="16200" y="21320"/>
                </a:lnTo>
                <a:lnTo>
                  <a:pt x="21600" y="18943"/>
                </a:lnTo>
                <a:lnTo>
                  <a:pt x="16200" y="16005"/>
                </a:lnTo>
                <a:lnTo>
                  <a:pt x="16200" y="17334"/>
                </a:lnTo>
                <a:arcTo wR="21600" hR="8807" stAng="7340660" swAng="3245731"/>
                <a:lnTo>
                  <a:pt x="247" y="10136"/>
                </a:lnTo>
                <a:arcTo wR="21600" hR="8807" stAng="-10586391" swAng="5186391"/>
                <a:close/>
              </a:path>
              <a:path fill="darkenLess" w="21600" h="21600">
                <a:moveTo>
                  <a:pt x="21600" y="0"/>
                </a:moveTo>
                <a:arcTo wR="21600" hR="8807" stAng="-5400000" swAng="-5400000"/>
                <a:lnTo>
                  <a:pt x="0" y="8807"/>
                </a:lnTo>
                <a:arcTo wR="21600" hR="8807" stAng="10800000" swAng="-213609"/>
                <a:lnTo>
                  <a:pt x="247" y="10136"/>
                </a:lnTo>
                <a:arcTo wR="21600" hR="8807" stAng="-10586391" swAng="5186391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Curved Right Arrow 27"/>
          <p:cNvSpPr/>
          <p:nvPr/>
        </p:nvSpPr>
        <p:spPr>
          <a:xfrm rot="20539800">
            <a:off x="1022400" y="1317240"/>
            <a:ext cx="1128600" cy="4449960"/>
          </a:xfrm>
          <a:custGeom>
            <a:avLst/>
            <a:gdLst>
              <a:gd name="textAreaLeft" fmla="*/ 151200 w 1128600"/>
              <a:gd name="textAreaRight" fmla="*/ 977400 w 1128600"/>
              <a:gd name="textAreaTop" fmla="*/ 1006560 h 4449960"/>
              <a:gd name="textAreaBottom" fmla="*/ 3302280 h 4449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773" stAng="-5400000" swAng="-5400000"/>
                <a:lnTo>
                  <a:pt x="0" y="11142"/>
                </a:lnTo>
                <a:arcTo wR="21600" hR="9773" stAng="10800000" swAng="-3617290"/>
                <a:lnTo>
                  <a:pt x="16200" y="21290"/>
                </a:lnTo>
                <a:lnTo>
                  <a:pt x="21600" y="20231"/>
                </a:lnTo>
                <a:lnTo>
                  <a:pt x="16200" y="18551"/>
                </a:lnTo>
                <a:lnTo>
                  <a:pt x="16200" y="19236"/>
                </a:lnTo>
                <a:arcTo wR="21600" hR="9773" stAng="7182710" swAng="3508117"/>
                <a:lnTo>
                  <a:pt x="53" y="10457"/>
                </a:lnTo>
                <a:arcTo wR="21600" hR="9773" stAng="-10690827" swAng="5290827"/>
                <a:close/>
              </a:path>
              <a:path fill="darkenLess" w="21600" h="21600">
                <a:moveTo>
                  <a:pt x="21600" y="0"/>
                </a:moveTo>
                <a:arcTo wR="21600" hR="9773" stAng="-5400000" swAng="-5400000"/>
                <a:lnTo>
                  <a:pt x="0" y="9773"/>
                </a:lnTo>
                <a:arcTo wR="21600" hR="9773" stAng="10800000" swAng="-109173"/>
                <a:lnTo>
                  <a:pt x="53" y="10457"/>
                </a:lnTo>
                <a:arcTo wR="21600" hR="9773" stAng="-10690827" swAng="5290827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Curved Right Arrow 28"/>
          <p:cNvSpPr/>
          <p:nvPr/>
        </p:nvSpPr>
        <p:spPr>
          <a:xfrm flipH="1" rot="1140600">
            <a:off x="6435360" y="1384200"/>
            <a:ext cx="1044720" cy="4415040"/>
          </a:xfrm>
          <a:custGeom>
            <a:avLst/>
            <a:gdLst>
              <a:gd name="textAreaLeft" fmla="*/ 139680 w 1044720"/>
              <a:gd name="textAreaRight" fmla="*/ 905040 w 1044720"/>
              <a:gd name="textAreaTop" fmla="*/ 1005840 h 4415040"/>
              <a:gd name="textAreaBottom" fmla="*/ 3278520 h 4415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842" stAng="-5400000" swAng="-5400000"/>
                <a:lnTo>
                  <a:pt x="0" y="11119"/>
                </a:lnTo>
                <a:arcTo wR="21600" hR="9842" stAng="10800000" swAng="-3627683"/>
                <a:lnTo>
                  <a:pt x="16200" y="21287"/>
                </a:lnTo>
                <a:lnTo>
                  <a:pt x="21600" y="20323"/>
                </a:lnTo>
                <a:lnTo>
                  <a:pt x="16200" y="18732"/>
                </a:lnTo>
                <a:lnTo>
                  <a:pt x="16200" y="19371"/>
                </a:lnTo>
                <a:arcTo wR="21600" hR="9842" stAng="7172317" swAng="3525878"/>
                <a:lnTo>
                  <a:pt x="46" y="10481"/>
                </a:lnTo>
                <a:arcTo wR="21600" hR="9842" stAng="-10698195" swAng="5298195"/>
                <a:close/>
              </a:path>
              <a:path fill="darkenLess" w="21600" h="21600">
                <a:moveTo>
                  <a:pt x="21600" y="0"/>
                </a:moveTo>
                <a:arcTo wR="21600" hR="9842" stAng="-5400000" swAng="-5400000"/>
                <a:lnTo>
                  <a:pt x="0" y="9842"/>
                </a:lnTo>
                <a:arcTo wR="21600" hR="9842" stAng="10800000" swAng="-101805"/>
                <a:lnTo>
                  <a:pt x="46" y="10481"/>
                </a:lnTo>
                <a:arcTo wR="21600" hR="9842" stAng="-10698195" swAng="5298195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29"/>
          <p:cNvSpPr/>
          <p:nvPr/>
        </p:nvSpPr>
        <p:spPr>
          <a:xfrm rot="16200000">
            <a:off x="5282640" y="3718080"/>
            <a:ext cx="204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BUNDLED  OUT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30"/>
          <p:cNvSpPr/>
          <p:nvPr/>
        </p:nvSpPr>
        <p:spPr>
          <a:xfrm rot="16200000">
            <a:off x="1470960" y="372456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FFS AMB  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31"/>
          <p:cNvSpPr/>
          <p:nvPr/>
        </p:nvSpPr>
        <p:spPr>
          <a:xfrm>
            <a:off x="5357880" y="4572000"/>
            <a:ext cx="2490840" cy="228600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CHRONIC  CARE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32"/>
          <p:cNvSpPr/>
          <p:nvPr/>
        </p:nvSpPr>
        <p:spPr>
          <a:xfrm>
            <a:off x="1143000" y="1500120"/>
            <a:ext cx="2214720" cy="228600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RAUMA AND ACUTE ILL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33"/>
          <p:cNvSpPr/>
          <p:nvPr/>
        </p:nvSpPr>
        <p:spPr>
          <a:xfrm>
            <a:off x="5072040" y="1428840"/>
            <a:ext cx="2471760" cy="228600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AGED CARE AND MENTAL HEALTH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34"/>
          <p:cNvSpPr/>
          <p:nvPr/>
        </p:nvSpPr>
        <p:spPr>
          <a:xfrm>
            <a:off x="685800" y="4429080"/>
            <a:ext cx="2967120" cy="228600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PRIVATE AND DISCRETIONARY ELECTIVE?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id growth in Victoria of same day epis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r evidence of admitting cases that can be treated in ambulatory set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s that can be treated either way becoming all inpatient – e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lysis and chemo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 PAYMENT INCENTIVE - C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mitting outpatients as short stay inpati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CO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533520" y="1668600"/>
            <a:ext cx="8001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$EM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0% ACCU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% CREATIVITY – SUBECT TO ED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49547-0388-4846-8C06-CC3510857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Object 2" descr=""/>
          <p:cNvPicPr/>
          <p:nvPr/>
        </p:nvPicPr>
        <p:blipFill>
          <a:blip r:embed="rId1"/>
          <a:stretch/>
        </p:blipFill>
        <p:spPr>
          <a:xfrm>
            <a:off x="1440" y="1141560"/>
            <a:ext cx="8994960" cy="5337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6964920" y="6521400"/>
            <a:ext cx="230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: Nagy, J., 199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2362320" y="228600"/>
            <a:ext cx="5562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Futura_PFL"/>
              </a:rPr>
              <a:t>DRG creep in Hung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many times per sta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many times per da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we pay for them both togeth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ight ti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nge of care type or discharge and readmission for rehabili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7200" y="396252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casemix systems adjust the system every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cost weights and recalibrated p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tial to cap or reweight overprovi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o detect and control gam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539640" y="1484280"/>
            <a:ext cx="815364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nly way to pay doctors is to change the system every three years, because by then they will have found ways to get round it to their own advantage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ob Eva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2D41F-5FCD-4614-B439-A7ACF39A2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e tuning of the system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ressing negative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coding (creep), “paper” (readmitted)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 and control provider reporting of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ous cost weight re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cy and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ing undertreatment (quality/effectivenes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ing new grou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DRGs for sophisticated care, but only selected provi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cker-sicker problem: readmission before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axim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y limit does not pay ex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8T11:38:04Z</dcterms:created>
  <dc:creator>Dragana</dc:creator>
  <dc:description/>
  <dc:language>en-US</dc:language>
  <cp:lastModifiedBy>marijanao</cp:lastModifiedBy>
  <dcterms:modified xsi:type="dcterms:W3CDTF">2011-12-21T06:18:18Z</dcterms:modified>
  <cp:revision>145</cp:revision>
  <dc:subject/>
  <dc:title>Наслов</dc:title>
</cp:coreProperties>
</file>