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70BC-2E80-4127-A7D7-736727E043F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F3D0-61A9-4824-81CF-B2A1CB120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EA4F-AA33-43D1-982E-CB48784CA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BC84-9C7B-43AC-BCC9-A7CEB6343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680C-BB27-41DE-95EA-AB2335D77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6195-F462-4853-9C44-2310376A5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707D-4AFD-4924-9EE6-4DAA406B8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35AC-EAA4-4011-9D51-FC9301B4C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B8C5-792E-41D1-9E94-516366E44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1829-D457-4F39-86C2-3866C0787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81AA-E224-41AF-BE31-5D2D3B6C9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5530-85F5-467A-97F8-C2A2B192C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5001-13F1-4FB1-8F37-945EC1879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1C1-EB68-4CDD-8145-95876162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EAF-4A7E-4E5C-91B8-5F912F6B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7CF-3F6F-4CFD-A7DE-BD4B327A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8C6-F549-4AAB-82C3-BEC1DD39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449-FDBC-4A25-ACE6-3C04D91C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081-CECD-48FE-B3E7-985FDC94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E02-921D-4194-9496-CD990724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22E-549A-4370-AE66-F8DEA980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02C-FCC5-4A09-838C-C4F88BA1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85E-4B48-4469-821D-413F9B76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808-2066-412E-9432-CCFCD123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C68-C25D-4CE5-AA3B-E2014D1A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C5CA-BC4A-4864-8220-C8D894174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7320" y="3700440"/>
            <a:ext cx="86756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 Mars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45 - 15.3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uesday,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6th Decemb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ing and Sub-acute pati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 is repeated offences with in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 is knowing violation of report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 is materially profiting from systematic ‘mistake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 is attempting to hide payments claimed that do not relate to a real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ifference between gaming and fra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ese issues be addressed in Serb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one now about professional revie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fraud detected and contro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cases” administrative discharges and readmission in Hung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of care type in NS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 cases” in Slov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tting cases in Emergency Department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can these be legitim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ting additional data counts for more fu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3"/>
          <p:cNvSpPr/>
          <p:nvPr/>
        </p:nvSpPr>
        <p:spPr>
          <a:xfrm>
            <a:off x="1928880" y="2143080"/>
            <a:ext cx="4714920" cy="4000680"/>
          </a:xfrm>
          <a:prstGeom prst="ellipse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N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5"/>
          <p:cNvSpPr/>
          <p:nvPr/>
        </p:nvSpPr>
        <p:spPr>
          <a:xfrm>
            <a:off x="2643120" y="5286240"/>
            <a:ext cx="328608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124800" y="550080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AME DAY IN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0"/>
          <p:cNvSpPr/>
          <p:nvPr/>
        </p:nvSpPr>
        <p:spPr>
          <a:xfrm flipH="1" flipV="1">
            <a:off x="2617920" y="2730240"/>
            <a:ext cx="1440" cy="2827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3"/>
          <p:cNvSpPr/>
          <p:nvPr/>
        </p:nvSpPr>
        <p:spPr>
          <a:xfrm flipV="1">
            <a:off x="5930280" y="2728440"/>
            <a:ext cx="21960" cy="281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9"/>
          <p:cNvSpPr/>
          <p:nvPr/>
        </p:nvSpPr>
        <p:spPr>
          <a:xfrm>
            <a:off x="2643120" y="2714760"/>
            <a:ext cx="32860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3562920" y="2214720"/>
            <a:ext cx="186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23"/>
          <p:cNvSpPr/>
          <p:nvPr/>
        </p:nvSpPr>
        <p:spPr>
          <a:xfrm>
            <a:off x="2556000" y="3714840"/>
            <a:ext cx="28548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ight Arrow 24"/>
          <p:cNvSpPr/>
          <p:nvPr/>
        </p:nvSpPr>
        <p:spPr>
          <a:xfrm>
            <a:off x="5799240" y="3714840"/>
            <a:ext cx="28548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25"/>
          <p:cNvSpPr/>
          <p:nvPr/>
        </p:nvSpPr>
        <p:spPr>
          <a:xfrm rot="5400000">
            <a:off x="4071240" y="2393280"/>
            <a:ext cx="28584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26"/>
          <p:cNvSpPr/>
          <p:nvPr/>
        </p:nvSpPr>
        <p:spPr>
          <a:xfrm rot="5400000">
            <a:off x="4107600" y="4964760"/>
            <a:ext cx="28548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1143000" y="714240"/>
            <a:ext cx="7772400" cy="764280"/>
          </a:xfrm>
          <a:prstGeom prst="rect">
            <a:avLst/>
          </a:prstGeom>
          <a:noFill/>
          <a:ln w="63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EFINITIONS AND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iped Right Arrow 15"/>
          <p:cNvSpPr/>
          <p:nvPr/>
        </p:nvSpPr>
        <p:spPr>
          <a:xfrm rot="5400000">
            <a:off x="2142720" y="1857240"/>
            <a:ext cx="1143000" cy="7146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iped Right Arrow 16"/>
          <p:cNvSpPr/>
          <p:nvPr/>
        </p:nvSpPr>
        <p:spPr>
          <a:xfrm rot="5400000">
            <a:off x="5428800" y="1785600"/>
            <a:ext cx="1000080" cy="7146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urved Right Arrow 20"/>
          <p:cNvSpPr/>
          <p:nvPr/>
        </p:nvSpPr>
        <p:spPr>
          <a:xfrm rot="18917400">
            <a:off x="1149120" y="1442520"/>
            <a:ext cx="1106280" cy="2100600"/>
          </a:xfrm>
          <a:custGeom>
            <a:avLst/>
            <a:gdLst>
              <a:gd name="textAreaLeft" fmla="*/ 147960 w 1106280"/>
              <a:gd name="textAreaRight" fmla="*/ 958320 w 1106280"/>
              <a:gd name="textAreaTop" fmla="*/ 421200 h 2100600"/>
              <a:gd name="textAreaBottom" fmla="*/ 1540800 h 21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7" stAng="-5400000" swAng="-5400000"/>
                <a:lnTo>
                  <a:pt x="0" y="11511"/>
                </a:lnTo>
                <a:arcTo wR="21600" hR="8667" stAng="10800000" swAng="-3434266"/>
                <a:lnTo>
                  <a:pt x="16200" y="21325"/>
                </a:lnTo>
                <a:lnTo>
                  <a:pt x="21600" y="18755"/>
                </a:lnTo>
                <a:lnTo>
                  <a:pt x="16200" y="15635"/>
                </a:lnTo>
                <a:lnTo>
                  <a:pt x="16200" y="17058"/>
                </a:lnTo>
                <a:arcTo wR="21600" hR="8667" stAng="7365734" swAng="3205178"/>
                <a:lnTo>
                  <a:pt x="293" y="10088"/>
                </a:lnTo>
                <a:arcTo wR="21600" hR="8667" stAng="-10570912" swAng="5170912"/>
                <a:close/>
              </a:path>
              <a:path fill="darkenLess" w="21600" h="21600">
                <a:moveTo>
                  <a:pt x="21600" y="0"/>
                </a:moveTo>
                <a:arcTo wR="21600" hR="8667" stAng="-5400000" swAng="-5400000"/>
                <a:lnTo>
                  <a:pt x="0" y="8667"/>
                </a:lnTo>
                <a:arcTo wR="21600" hR="8667" stAng="10800000" swAng="-229088"/>
                <a:lnTo>
                  <a:pt x="293" y="10088"/>
                </a:lnTo>
                <a:arcTo wR="21600" hR="8667" stAng="-10570912" swAng="5170912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rved Right Arrow 21"/>
          <p:cNvSpPr/>
          <p:nvPr/>
        </p:nvSpPr>
        <p:spPr>
          <a:xfrm flipH="1" rot="3004200">
            <a:off x="6356880" y="1520280"/>
            <a:ext cx="1044720" cy="2121840"/>
          </a:xfrm>
          <a:custGeom>
            <a:avLst/>
            <a:gdLst>
              <a:gd name="textAreaLeft" fmla="*/ 139680 w 1044720"/>
              <a:gd name="textAreaRight" fmla="*/ 905040 w 1044720"/>
              <a:gd name="textAreaTop" fmla="*/ 432360 h 2121840"/>
              <a:gd name="textAreaBottom" fmla="*/ 1558800 h 212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07" stAng="-5400000" swAng="-5400000"/>
                <a:lnTo>
                  <a:pt x="0" y="11464"/>
                </a:lnTo>
                <a:arcTo wR="21600" hR="8807" stAng="10800000" swAng="-3459340"/>
                <a:lnTo>
                  <a:pt x="16200" y="21320"/>
                </a:lnTo>
                <a:lnTo>
                  <a:pt x="21600" y="18943"/>
                </a:lnTo>
                <a:lnTo>
                  <a:pt x="16200" y="16005"/>
                </a:lnTo>
                <a:lnTo>
                  <a:pt x="16200" y="17334"/>
                </a:lnTo>
                <a:arcTo wR="21600" hR="8807" stAng="7340660" swAng="3245731"/>
                <a:lnTo>
                  <a:pt x="247" y="10136"/>
                </a:lnTo>
                <a:arcTo wR="21600" hR="8807" stAng="-10586391" swAng="5186391"/>
                <a:close/>
              </a:path>
              <a:path fill="darkenLess" w="21600" h="21600">
                <a:moveTo>
                  <a:pt x="21600" y="0"/>
                </a:moveTo>
                <a:arcTo wR="21600" hR="8807" stAng="-5400000" swAng="-5400000"/>
                <a:lnTo>
                  <a:pt x="0" y="8807"/>
                </a:lnTo>
                <a:arcTo wR="21600" hR="8807" stAng="10800000" swAng="-213609"/>
                <a:lnTo>
                  <a:pt x="247" y="10136"/>
                </a:lnTo>
                <a:arcTo wR="21600" hR="8807" stAng="-10586391" swAng="518639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urved Right Arrow 27"/>
          <p:cNvSpPr/>
          <p:nvPr/>
        </p:nvSpPr>
        <p:spPr>
          <a:xfrm rot="20539800">
            <a:off x="1022400" y="1317240"/>
            <a:ext cx="1128600" cy="4449960"/>
          </a:xfrm>
          <a:custGeom>
            <a:avLst/>
            <a:gdLst>
              <a:gd name="textAreaLeft" fmla="*/ 151200 w 1128600"/>
              <a:gd name="textAreaRight" fmla="*/ 977400 w 1128600"/>
              <a:gd name="textAreaTop" fmla="*/ 1006560 h 4449960"/>
              <a:gd name="textAreaBottom" fmla="*/ 3302280 h 444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73" stAng="-5400000" swAng="-5400000"/>
                <a:lnTo>
                  <a:pt x="0" y="11142"/>
                </a:lnTo>
                <a:arcTo wR="21600" hR="9773" stAng="10800000" swAng="-3617290"/>
                <a:lnTo>
                  <a:pt x="16200" y="21290"/>
                </a:lnTo>
                <a:lnTo>
                  <a:pt x="21600" y="20231"/>
                </a:lnTo>
                <a:lnTo>
                  <a:pt x="16200" y="18551"/>
                </a:lnTo>
                <a:lnTo>
                  <a:pt x="16200" y="19236"/>
                </a:lnTo>
                <a:arcTo wR="21600" hR="9773" stAng="7182710" swAng="3508117"/>
                <a:lnTo>
                  <a:pt x="53" y="10457"/>
                </a:lnTo>
                <a:arcTo wR="21600" hR="9773" stAng="-10690827" swAng="5290827"/>
                <a:close/>
              </a:path>
              <a:path fill="darkenLess" w="21600" h="21600">
                <a:moveTo>
                  <a:pt x="21600" y="0"/>
                </a:moveTo>
                <a:arcTo wR="21600" hR="9773" stAng="-5400000" swAng="-5400000"/>
                <a:lnTo>
                  <a:pt x="0" y="9773"/>
                </a:lnTo>
                <a:arcTo wR="21600" hR="9773" stAng="10800000" swAng="-109173"/>
                <a:lnTo>
                  <a:pt x="53" y="10457"/>
                </a:lnTo>
                <a:arcTo wR="21600" hR="9773" stAng="-10690827" swAng="5290827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urved Right Arrow 28"/>
          <p:cNvSpPr/>
          <p:nvPr/>
        </p:nvSpPr>
        <p:spPr>
          <a:xfrm flipH="1" rot="1140600">
            <a:off x="6435360" y="1384200"/>
            <a:ext cx="1044720" cy="4415040"/>
          </a:xfrm>
          <a:custGeom>
            <a:avLst/>
            <a:gdLst>
              <a:gd name="textAreaLeft" fmla="*/ 139680 w 1044720"/>
              <a:gd name="textAreaRight" fmla="*/ 905040 w 1044720"/>
              <a:gd name="textAreaTop" fmla="*/ 1005840 h 4415040"/>
              <a:gd name="textAreaBottom" fmla="*/ 3278520 h 441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42" stAng="-5400000" swAng="-5400000"/>
                <a:lnTo>
                  <a:pt x="0" y="11119"/>
                </a:lnTo>
                <a:arcTo wR="21600" hR="9842" stAng="10800000" swAng="-3627683"/>
                <a:lnTo>
                  <a:pt x="16200" y="21287"/>
                </a:lnTo>
                <a:lnTo>
                  <a:pt x="21600" y="20323"/>
                </a:lnTo>
                <a:lnTo>
                  <a:pt x="16200" y="18732"/>
                </a:lnTo>
                <a:lnTo>
                  <a:pt x="16200" y="19371"/>
                </a:lnTo>
                <a:arcTo wR="21600" hR="9842" stAng="7172317" swAng="3525878"/>
                <a:lnTo>
                  <a:pt x="46" y="10481"/>
                </a:lnTo>
                <a:arcTo wR="21600" hR="9842" stAng="-10698195" swAng="5298195"/>
                <a:close/>
              </a:path>
              <a:path fill="darkenLess" w="21600" h="21600">
                <a:moveTo>
                  <a:pt x="21600" y="0"/>
                </a:moveTo>
                <a:arcTo wR="21600" hR="9842" stAng="-5400000" swAng="-5400000"/>
                <a:lnTo>
                  <a:pt x="0" y="9842"/>
                </a:lnTo>
                <a:arcTo wR="21600" hR="9842" stAng="10800000" swAng="-101805"/>
                <a:lnTo>
                  <a:pt x="46" y="10481"/>
                </a:lnTo>
                <a:arcTo wR="21600" hR="9842" stAng="-10698195" swAng="529819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9"/>
          <p:cNvSpPr/>
          <p:nvPr/>
        </p:nvSpPr>
        <p:spPr>
          <a:xfrm rot="16200000">
            <a:off x="5282640" y="3718080"/>
            <a:ext cx="204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UNDLED  OUT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0"/>
          <p:cNvSpPr/>
          <p:nvPr/>
        </p:nvSpPr>
        <p:spPr>
          <a:xfrm rot="16200000">
            <a:off x="1470960" y="372456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FS AMB 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1"/>
          <p:cNvSpPr/>
          <p:nvPr/>
        </p:nvSpPr>
        <p:spPr>
          <a:xfrm>
            <a:off x="5357880" y="4572000"/>
            <a:ext cx="2490840" cy="22860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HRONIC  CAR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2"/>
          <p:cNvSpPr/>
          <p:nvPr/>
        </p:nvSpPr>
        <p:spPr>
          <a:xfrm>
            <a:off x="1143000" y="1500120"/>
            <a:ext cx="2214720" cy="22860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RAUMA AND ACUTE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3"/>
          <p:cNvSpPr/>
          <p:nvPr/>
        </p:nvSpPr>
        <p:spPr>
          <a:xfrm>
            <a:off x="5072040" y="1428840"/>
            <a:ext cx="2471760" cy="22860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GED CARE AND MENTAL HEALTH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4"/>
          <p:cNvSpPr/>
          <p:nvPr/>
        </p:nvSpPr>
        <p:spPr>
          <a:xfrm>
            <a:off x="685800" y="4429080"/>
            <a:ext cx="2967120" cy="22860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IVATE AND DISCRETIONARY ELECTIVE?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growth in Victoria of same day epis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vidence of admitting cases that can be treated in ambulatory se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s that can be treated either way becoming all inpatient – e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lysis and chemo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PAYMENT INCENTIVE - C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mitting outpatients as short stay in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33520" y="166860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$E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%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% CREATIVITY – SUBECT TO ED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C249-246B-486C-A872-C0FA35826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1440" y="1141560"/>
            <a:ext cx="8994960" cy="5337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964920" y="6521400"/>
            <a:ext cx="23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Nagy, J., 199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362320" y="228600"/>
            <a:ext cx="556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Futura_PFL"/>
              </a:rPr>
              <a:t>DRG creep in Hung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times per st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times per 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we pay for them both toget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ight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 of care type or discharge and readmission for rehabil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asemix systems adjust the system every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st weights and recalibrated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to cap or reweight overpro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etect and control ga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9640" y="1484280"/>
            <a:ext cx="8153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nly way to pay doctors is to change the system every three years, because by then they will have found ways to get round it to their own advantage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b Ev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DE6E-BB0D-4631-998C-2197F5B7C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 tuning of the syste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ing negativ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coding (creep), “paper” (readmitted)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and control provider reporting of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cost weight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undertreatment (quality/effectivenes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new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DRGs for sophisticated care, but only selected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er-sicker problem: readmission before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y limit does not pay ex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marijanao</cp:lastModifiedBy>
  <dcterms:modified xsi:type="dcterms:W3CDTF">2011-12-21T06:18:18Z</dcterms:modified>
  <cp:revision>145</cp:revision>
  <dc:subject/>
  <dc:title>Наслов</dc:title>
</cp:coreProperties>
</file>