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94CE-0C35-4B4F-A317-856A63C3557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E58D-E5D5-4154-9D5D-8BE756C3C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FB3D-F955-4D5A-AB34-6D704CF85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0CAE-C2A5-43B6-BFC3-D96C1F1F7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A4F3-0AC5-4F4C-821A-F3CD8E3F3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ZEITACHSE=Time 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NKRAFTTRETEN=TAKING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KODIERRICHT= KODIERR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LINIEN=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KALKULATION=CAL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UR=ON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RIEWILLIGE=VOLUNT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BU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KONVERGENZ=CONVERG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REIES=PL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INFUHRUNG=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2A4B-8CEE-48F6-8E9E-CBC680625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5244-95D8-4557-9A5B-DB536604CC72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5181-5A54-47BD-B567-A8A85CF4D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E4AD-C020-4126-BFF7-7D1544A9B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88C-1A51-424D-8A63-0CAAC4CE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FF6-CC14-40CC-8996-9EFE743C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3547-F622-44CF-B8CB-5A3916C1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C40-2B11-43C4-B61B-A8D771F1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9368-1B7E-4A20-9C7C-CA03164A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5179-844D-4FDB-BE30-ECD74C71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AB57-2744-4C83-8740-6EE5F3A9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0244-F727-46AF-BE5D-09BD1217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4C52-2FCD-49C1-9FA2-E6C55725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6901-8AA9-4CD1-9441-F8D2F7FD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742D-1365-4CDE-9FE0-5B289C26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047-5A86-4152-91EE-374B7848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9CBE-A9B6-4BAF-AD9E-A789B81C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D9E0-02BC-402C-AE63-3F17A993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525D-D600-476C-9387-B6DBF780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CDF7-ED1E-43B2-90B5-2030C153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1EAA-3F7B-484B-8BDC-ADB6CA1A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D61F1-7CC5-4527-81C9-9CEF8115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3BF30-398B-44B1-8907-5A3A064F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28E56-DD4B-495D-99E5-D1DF3F07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1BE4D-90BB-4058-A240-660D7446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8FB1E-C7D2-4131-8F89-5E8321C4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EAA5-FC24-4AF7-B801-DC39D050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B1A9B-B2D0-49B6-81D9-26652C10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EB2ED-5A89-4C50-A85C-1FE1CB5D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3E6E3-63F9-47E7-A113-7DE70992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100B8-542C-48CB-B087-A035A180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DBB2A-FD40-4272-B132-380C103E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29DE8-55E9-4231-9FFF-C6EBB354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85223-721C-4963-9CD8-E8E529C7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B4A8-6651-45F4-8DA3-602B33FA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203B-98BD-4B94-8E78-76AD9522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058-070C-4CCC-A21D-D9ECCA6C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8672-557C-4159-AA15-3A4E20FC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238-17D9-4A3F-A675-52277E40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5CDD-AD1B-4379-8705-EACE210D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4993-BFA4-49A4-8135-586631DE9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  <a:ea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  <a:ea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56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201A-CC94-42EC-B8F3-B0C9F7D89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  <a:ea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7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77E2-7548-4F8F-AB0D-973D4A4DA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247320" y="3395160"/>
            <a:ext cx="8675640" cy="23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f Ric Marsh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im Independent Hospital Pricing Authori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ANBERRA, AUSTR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aculty of Health Scienc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iversity of Syd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0.15 -11.00 5DEC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400" spc="-1" strike="noStrike">
                <a:solidFill>
                  <a:srgbClr val="000000"/>
                </a:solidFill>
                <a:latin typeface="Arial"/>
              </a:rPr>
              <a:t>Fundamentals of Diagnosis related groups implem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HOW MUCH DOES A DRG CO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2"/>
          <p:cNvGraphicFramePr/>
          <p:nvPr/>
        </p:nvGraphicFramePr>
        <p:xfrm>
          <a:off x="298440" y="1870200"/>
          <a:ext cx="8450280" cy="42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1870200"/>
                    <a:ext cx="8450280" cy="42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50840" y="1351080"/>
          <a:ext cx="8278920" cy="4433760"/>
        </p:xfrm>
        <a:graphic>
          <a:graphicData uri="http://schemas.openxmlformats.org/drawingml/2006/table">
            <a:tbl>
              <a:tblPr/>
              <a:tblGrid>
                <a:gridCol w="1219320"/>
                <a:gridCol w="1506240"/>
                <a:gridCol w="1016280"/>
                <a:gridCol w="1014120"/>
                <a:gridCol w="1016280"/>
                <a:gridCol w="1252440"/>
                <a:gridCol w="1254240"/>
              </a:tblGrid>
              <a:tr h="295200">
                <a:tc gridSpan="7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9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on-admit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Bonus fund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Quality fund incl mate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lectiv surg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DRG pay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1,301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,228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,361.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97,957.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85,935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5,272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,895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,077.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,888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20,37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61,685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6,143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,193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38.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,666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83,295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97,197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5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8,834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2,649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,687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,933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,241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93,193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04,858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6,254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,228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,205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40,554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86,677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6,699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,495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59,497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22,322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7,914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,228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,264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84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66,836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02,242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4,588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,228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,338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,445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15,701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52,410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6,127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3,333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70,508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90,120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6,627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1,083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6,837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,735,355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,447,229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148"/>
          <p:cNvSpPr/>
          <p:nvPr/>
        </p:nvSpPr>
        <p:spPr>
          <a:xfrm>
            <a:off x="1371600" y="228600"/>
            <a:ext cx="7310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onent 3: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MODELLED BUDGET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 4:</a:t>
            </a: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How do you change funding arrangements?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43280" y="1447920"/>
            <a:ext cx="3673440" cy="40989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h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ransi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</a:rPr>
              <a:t>Initial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olic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odelling and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 rot="16200000">
            <a:off x="555480" y="2214000"/>
            <a:ext cx="3238200" cy="3152880"/>
          </a:xfrm>
          <a:custGeom>
            <a:avLst/>
            <a:gdLst>
              <a:gd name="textAreaLeft" fmla="*/ 474120 w 3238200"/>
              <a:gd name="textAreaRight" fmla="*/ 2764080 w 3238200"/>
              <a:gd name="textAreaTop" fmla="*/ 461520 h 3152880"/>
              <a:gd name="textAreaBottom" fmla="*/ 2691360 h 31528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 rot="5400000">
            <a:off x="5537160" y="2176200"/>
            <a:ext cx="3238560" cy="3152880"/>
          </a:xfrm>
          <a:custGeom>
            <a:avLst/>
            <a:gdLst>
              <a:gd name="textAreaLeft" fmla="*/ 474120 w 3238560"/>
              <a:gd name="textAreaRight" fmla="*/ 2764440 w 3238560"/>
              <a:gd name="textAreaTop" fmla="*/ 461520 h 3152880"/>
              <a:gd name="textAreaBottom" fmla="*/ 2691360 h 31528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2"/>
          <p:cNvGraphicFramePr/>
          <p:nvPr/>
        </p:nvGraphicFramePr>
        <p:xfrm>
          <a:off x="4632480" y="4098960"/>
          <a:ext cx="31680" cy="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2480" y="4098960"/>
                    <a:ext cx="31680" cy="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3"/>
          <p:cNvSpPr/>
          <p:nvPr/>
        </p:nvSpPr>
        <p:spPr>
          <a:xfrm>
            <a:off x="1523880" y="1522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DRGs Implementation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609480" y="1523880"/>
          <a:ext cx="8229600" cy="449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523880"/>
                    <a:ext cx="82296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lthcare system outputs rather than inp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27792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000000"/>
                </a:solidFill>
                <a:latin typeface="Arial"/>
              </a:rPr>
              <a:t>How does your garden grow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457200" y="1654200"/>
          <a:ext cx="403848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54200"/>
                    <a:ext cx="403848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8"/>
          <p:cNvGraphicFramePr/>
          <p:nvPr/>
        </p:nvGraphicFramePr>
        <p:xfrm>
          <a:off x="620640" y="3941640"/>
          <a:ext cx="3710160" cy="21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3941640"/>
                    <a:ext cx="37101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10"/>
          <p:cNvGraphicFramePr/>
          <p:nvPr/>
        </p:nvGraphicFramePr>
        <p:xfrm>
          <a:off x="5051520" y="4024440"/>
          <a:ext cx="3624120" cy="2023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1520" y="4024440"/>
                    <a:ext cx="362412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13"/>
          <p:cNvGraphicFramePr/>
          <p:nvPr/>
        </p:nvGraphicFramePr>
        <p:xfrm>
          <a:off x="4643280" y="1700280"/>
          <a:ext cx="4038840" cy="18730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22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3280" y="1700280"/>
                    <a:ext cx="403884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Object 7"/>
          <p:cNvGraphicFramePr/>
          <p:nvPr/>
        </p:nvGraphicFramePr>
        <p:xfrm>
          <a:off x="725400" y="838080"/>
          <a:ext cx="7653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838080"/>
                    <a:ext cx="76536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TextBox 1"/>
          <p:cNvSpPr/>
          <p:nvPr/>
        </p:nvSpPr>
        <p:spPr>
          <a:xfrm>
            <a:off x="1216440" y="457200"/>
            <a:ext cx="71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BUDGET ALLOCATIONS AFFECT HOSPITAL EXPENDIT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1324080" y="58482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36520" y="5410080"/>
            <a:ext cx="867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1982, Congress mandated the use of a prospective payment system and in 1983 the Medicare program implemented a DRG-based payment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842480" y="5214960"/>
            <a:ext cx="540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edicare Spending as a Percent of Total Health Expenditures, 1970–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1134360" y="3240"/>
            <a:ext cx="7000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y Did USA Medicare Program Deci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 Use DRGs for Payme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"/>
          <p:cNvGraphicFramePr/>
          <p:nvPr/>
        </p:nvGraphicFramePr>
        <p:xfrm>
          <a:off x="1000080" y="1317600"/>
          <a:ext cx="685800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317600"/>
                    <a:ext cx="685800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6"/>
          <p:cNvSpPr/>
          <p:nvPr/>
        </p:nvSpPr>
        <p:spPr>
          <a:xfrm>
            <a:off x="214200" y="6070680"/>
            <a:ext cx="87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Katharine Levit et al., “Health Spending Rebound Continues in 2002,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ealth Affair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January/February 2004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vider Paymen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TEMISED BILLING – “Fee for Serv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UNDLED BILLING – “Per episod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PITATION FUNDING – “Per pati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LOBAL BUDGETS – “Historic plu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agnoses are more useful than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clinical dis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inician is the resourc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ing on procedures means more procedures results in more 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value for money (outcome) is more important than the lowest cost or the the greatest quantity of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you want to know about DR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want to know about DR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dea of resource homogenous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within groups should be related to the average or benchmark cost of providing the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st is too variab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viders may select only the least complex lowest cost cases. “cream skimm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viders may be at risk of getting the most complex and expensive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ALYSIS OF DAT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– BOTH PAYER AND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dea of clinically meaningful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scribing healthcar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must contain like with like cases from a clinical point of view – e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skills and facilities required to treat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imilar care protocol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mparable in terms of outcome expec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idea of the Diagnosis Related Group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7896240" cy="57787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6"/>
          <p:cNvSpPr/>
          <p:nvPr/>
        </p:nvSpPr>
        <p:spPr>
          <a:xfrm>
            <a:off x="1224360" y="609480"/>
            <a:ext cx="686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o, in summary, DRGs: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Describe the number and type of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he Mix of cases – limited number of categ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Resource homogeneity, Clinical meaningfu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Used: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As funding indicator or payment scale BUT AL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o compare how different hospitals treat patients in different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o identify treatment tre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n quality improvement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o identify the types of patients hospitals tre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For retrospective data analysis for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ing for health services based on activity rather than expendi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Y DRG’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USED EFFETIVELY AS A FUND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RG’s help to focus on hospital efficiency and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RG’s help to contain growth in hospital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DRG IS JUST THE TOOL NOT THE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4"/>
          <p:cNvGraphicFramePr/>
          <p:nvPr/>
        </p:nvGraphicFramePr>
        <p:xfrm>
          <a:off x="2500200" y="189000"/>
          <a:ext cx="6481800" cy="64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189000"/>
                    <a:ext cx="64818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179280" y="274680"/>
            <a:ext cx="266400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800080"/>
                </a:solidFill>
                <a:latin typeface="Verdana"/>
              </a:rPr>
              <a:t>5 major 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AU" sz="3600" spc="-1" strike="noStrike">
                <a:solidFill>
                  <a:srgbClr val="800080"/>
                </a:solidFill>
                <a:latin typeface="Verdana"/>
              </a:rPr>
              <a:t> group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140360" y="179280"/>
            <a:ext cx="1584000" cy="64897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50920" y="3141720"/>
            <a:ext cx="26636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6600"/>
                </a:solidFill>
                <a:latin typeface="Verdana"/>
              </a:rPr>
              <a:t>18 major 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product </a:t>
            </a:r>
            <a:r>
              <a:rPr b="0" lang="en-AU" sz="3600" spc="-1" strike="noStrike">
                <a:solidFill>
                  <a:srgbClr val="006600"/>
                </a:solidFill>
                <a:latin typeface="Verdana"/>
              </a:rPr>
              <a:t>subgroups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7236000" y="189000"/>
            <a:ext cx="1728720" cy="6480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780000" y="3857760"/>
            <a:ext cx="5214600" cy="10191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</a:rPr>
              <a:t>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Hospital Inpatient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oals,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fficient use of available resources such as same day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lose integration with non-acute care settings to support early discharge and effective post discharg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ood health outcomes and minimisation of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ptimisation of patient 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pisode focus – eg D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nents of a drg funding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needed to fund a hospital system by DRG payments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onent 1: Data Elements Required 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 Assign Cases to DRG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33520" y="1187280"/>
            <a:ext cx="4038480" cy="2241720"/>
          </a:xfrm>
          <a:prstGeom prst="rect">
            <a:avLst/>
          </a:prstGeom>
          <a:solidFill>
            <a:srgbClr val="00808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8120" indent="-16812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D-10-AM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35080">
              <a:lnSpc>
                <a:spcPct val="100000"/>
              </a:lnSpc>
              <a:spcBef>
                <a:spcPts val="550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cipal diagn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35080">
              <a:lnSpc>
                <a:spcPct val="100000"/>
              </a:lnSpc>
              <a:spcBef>
                <a:spcPts val="550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al diagnoses, complication, co morbid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35080">
              <a:lnSpc>
                <a:spcPct val="100000"/>
              </a:lnSpc>
              <a:spcBef>
                <a:spcPts val="550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dure/s (ACH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63680" y="3549600"/>
            <a:ext cx="4038480" cy="129528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8120" indent="-16812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ient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35080">
              <a:lnSpc>
                <a:spcPct val="100000"/>
              </a:lnSpc>
              <a:spcBef>
                <a:spcPts val="550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 Admission Date and Date of Bi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92120" y="4952880"/>
            <a:ext cx="4038480" cy="1784520"/>
          </a:xfrm>
          <a:prstGeom prst="rect">
            <a:avLst/>
          </a:prstGeom>
          <a:solidFill>
            <a:srgbClr val="00808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8120" indent="-16812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 of separation (discharge stat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35080">
              <a:lnSpc>
                <a:spcPct val="100000"/>
              </a:lnSpc>
              <a:spcBef>
                <a:spcPts val="550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ional Standard, includes died, transfer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35080">
              <a:lnSpc>
                <a:spcPct val="100000"/>
              </a:lnSpc>
              <a:spcBef>
                <a:spcPts val="550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853160" y="1339920"/>
            <a:ext cx="4114800" cy="533160"/>
          </a:xfrm>
          <a:prstGeom prst="rect">
            <a:avLst/>
          </a:prstGeom>
          <a:solidFill>
            <a:srgbClr val="00808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8120" indent="-16812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818240" y="3244680"/>
            <a:ext cx="4114800" cy="762120"/>
          </a:xfrm>
          <a:prstGeom prst="rect">
            <a:avLst/>
          </a:prstGeom>
          <a:solidFill>
            <a:srgbClr val="00808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8120" indent="-16812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-day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818240" y="4083120"/>
            <a:ext cx="4114800" cy="147960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8120" indent="-16812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born admission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35080">
              <a:lnSpc>
                <a:spcPct val="100000"/>
              </a:lnSpc>
              <a:spcBef>
                <a:spcPts val="550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ge 28 days or less, plus older if less than 2500 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853160" y="5715000"/>
            <a:ext cx="4114800" cy="990720"/>
          </a:xfrm>
          <a:prstGeom prst="rect">
            <a:avLst/>
          </a:prstGeom>
          <a:solidFill>
            <a:srgbClr val="00808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8120" indent="-16812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nsive  care 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35080">
              <a:lnSpc>
                <a:spcPct val="100000"/>
              </a:lnSpc>
              <a:spcBef>
                <a:spcPts val="550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in ICU, H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4853160" y="2025720"/>
            <a:ext cx="4114800" cy="102240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8120" indent="-16812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ngth Of St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35080">
              <a:lnSpc>
                <a:spcPct val="90000"/>
              </a:lnSpc>
              <a:spcBef>
                <a:spcPts val="550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 Admission and Separation 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onent 2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IS TH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0" y="3213000"/>
            <a:ext cx="3419640" cy="2448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Three days in hos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= 900YT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771640" y="1341360"/>
            <a:ext cx="4032360" cy="3384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Three days of nur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= 300YT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179280" y="1341360"/>
            <a:ext cx="3311640" cy="2448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anaesthesi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theatre p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= 1000YT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5940360" y="1341360"/>
            <a:ext cx="2808360" cy="2448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Ten pathology t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= 250YT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5724360" y="3141720"/>
            <a:ext cx="3168720" cy="25207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Eight specialist consul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= 400YT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j0286034"/>
          <p:cNvPicPr/>
          <p:nvPr/>
        </p:nvPicPr>
        <p:blipFill>
          <a:blip r:embed="rId1"/>
          <a:stretch/>
        </p:blipFill>
        <p:spPr>
          <a:xfrm>
            <a:off x="7956720" y="404640"/>
            <a:ext cx="919080" cy="885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9"/>
          <p:cNvSpPr/>
          <p:nvPr/>
        </p:nvSpPr>
        <p:spPr>
          <a:xfrm>
            <a:off x="3208320" y="5211720"/>
            <a:ext cx="443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? 1000+300=1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? 1000+300+400=1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? 1000+900+300+250+400=28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2"/>
          <a:stretch/>
        </p:blipFill>
        <p:spPr>
          <a:xfrm>
            <a:off x="1908000" y="5157720"/>
            <a:ext cx="1208160" cy="144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"/>
          <p:cNvPicPr/>
          <p:nvPr/>
        </p:nvPicPr>
        <p:blipFill>
          <a:blip r:embed="rId3"/>
          <a:stretch/>
        </p:blipFill>
        <p:spPr>
          <a:xfrm>
            <a:off x="7791480" y="5230800"/>
            <a:ext cx="884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1:38:04Z</dcterms:created>
  <dc:creator>Dragana</dc:creator>
  <dc:description/>
  <dc:language>en-US</dc:language>
  <cp:lastModifiedBy>RICHARD  MARSHALL</cp:lastModifiedBy>
  <dcterms:modified xsi:type="dcterms:W3CDTF">2011-12-03T05:03:56Z</dcterms:modified>
  <cp:revision>123</cp:revision>
  <dc:subject/>
  <dc:title>Наслов</dc:title>
</cp:coreProperties>
</file>