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9F98-F6BC-404C-8122-3CB2FF9BD9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CF3D-3326-4B4D-9808-54F925D0D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A043-D845-47DD-B058-1946DEAF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E270-C765-483A-883B-9F97F603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4920-74CC-4A8A-BB6D-1B7DA649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ZEITACHSE=Time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NKRAFTTRETEN=TAKING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KODIERRICHT= KODIERR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LINIEN=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KALKULATION=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UR=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IEWILLIGE=VOLUNT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BU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KONVERGENZ=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EIES=PL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INFUHRUNG=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2C6-067A-48D0-8A09-E8B4F7576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1338-F9C9-45DA-9504-3F1BAA5854CA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6488-67AD-4AED-B6C9-34CF9336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2720-4310-4DBD-983B-1ADB96A0F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BF2-D732-4EEF-A1CC-CD0ABCE2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285-E6B8-45D9-974A-538D2104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DED-A9EA-467E-824C-46E382DA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62A-470B-4EF8-B176-EFDF59C5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8CAD-79F1-47DA-8276-DE6DBBE9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3934-36AD-4345-A3CF-B888A513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0765-E655-4FEA-8BF0-2296A8A6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0A2A-CCB6-49A6-A21F-10C80B3B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ACBD-624D-4E36-8952-E47CE6C5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D3E9-F8EF-4746-BF5C-9BDEC349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BF13-8E74-4A74-A4D1-5A6B126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A54-8324-445B-B29C-0747DAEC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2772-6D10-4DEE-B82A-BE4EE3EF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3AC1-3D3F-4BB2-A3A0-28C13CA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071B-EBD5-477E-9DF5-5B1FEC7A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4C73-1CA5-4ADF-814D-914B7794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DC71-D3F2-4358-8F81-BE54B2CC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C759-51A6-4A20-B357-10D1A747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93A2-F291-4B86-8A0D-2EC268DF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2055-1DCB-404B-88F4-0BB996C8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E934-B45F-4AF0-B30C-B4C349B4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CB1C-1C00-41EA-B381-A4D7775D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1DB-8CDB-4162-B334-CF803893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FA5B-8BC7-48D1-9AAA-B8D4A41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A189-3B2B-4AB5-A1FA-A12DED11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35F4-729F-4FFD-A811-FBAEF3A7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026B-D067-46DA-8C8F-B1B3C6CC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BCA3-1406-433A-9FE1-127C3383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8E99-9833-44D7-A544-878556C7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730E-ECDF-4224-8E5B-88136082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F0A-F43E-42B8-9726-A225891B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6A1-D6D8-46BD-9CE1-E0D2CF7C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730-24BD-444E-8FE7-D1BF9160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2BE-2BE4-4348-B40C-08333B48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04B-2143-4D65-9F2A-11CD3FC7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3A1-5FC7-4245-9E67-74D5A333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BC01-0216-4D92-B4DA-E2CA5F137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56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0FE3-5CB6-4557-8CF4-BC28BAE05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  <a:ea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7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01A5-5DA9-4869-9C2B-DFA9850C6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47320" y="3395160"/>
            <a:ext cx="8675640" cy="23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f Ric Marsh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im Independent Hospital Pricing Author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NBERRA, 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aculty of Health Scienc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iversity of Syd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0.15 -11.00 5DEC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Fundamentals of Diagnosis related groups implem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HOW MUCH DOES A DRG C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"/>
          <p:cNvGraphicFramePr/>
          <p:nvPr/>
        </p:nvGraphicFramePr>
        <p:xfrm>
          <a:off x="298440" y="1870200"/>
          <a:ext cx="8450280" cy="42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870200"/>
                    <a:ext cx="845028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0840" y="1351080"/>
          <a:ext cx="8278920" cy="4433760"/>
        </p:xfrm>
        <a:graphic>
          <a:graphicData uri="http://schemas.openxmlformats.org/drawingml/2006/table">
            <a:tbl>
              <a:tblPr/>
              <a:tblGrid>
                <a:gridCol w="1219320"/>
                <a:gridCol w="1506240"/>
                <a:gridCol w="1016280"/>
                <a:gridCol w="1014120"/>
                <a:gridCol w="1016280"/>
                <a:gridCol w="1252440"/>
                <a:gridCol w="1254240"/>
              </a:tblGrid>
              <a:tr h="295200">
                <a:tc gridSpan="7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on-ad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onus fund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Quality fund incl mate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lectiv surg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RG pay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'000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1,30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,361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97,957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85,935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5,272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895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077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888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20,37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61,685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6,143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193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38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666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83,295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97,197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5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8,834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2,649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,687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933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24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93,193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04,858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6,25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20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40,554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86,677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6,699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49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59,497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22,322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7,91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264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84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6,836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02,24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4,588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,228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338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,44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15,701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52,410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,127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3,333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70,508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90,12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6,627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1,083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6,837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,735,355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,447,229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48"/>
          <p:cNvSpPr/>
          <p:nvPr/>
        </p:nvSpPr>
        <p:spPr>
          <a:xfrm>
            <a:off x="1371600" y="228600"/>
            <a:ext cx="731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onent 3: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MODELLED BUDGET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4: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How do you change funding arrangements?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43280" y="1447920"/>
            <a:ext cx="3673440" cy="40989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nsi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Initial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olic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delling and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 rot="16200000">
            <a:off x="555480" y="2214000"/>
            <a:ext cx="3238200" cy="3152880"/>
          </a:xfrm>
          <a:custGeom>
            <a:avLst/>
            <a:gdLst>
              <a:gd name="textAreaLeft" fmla="*/ 474120 w 3238200"/>
              <a:gd name="textAreaRight" fmla="*/ 2764080 w 3238200"/>
              <a:gd name="textAreaTop" fmla="*/ 461520 h 3152880"/>
              <a:gd name="textAreaBottom" fmla="*/ 2691360 h 3152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5400000">
            <a:off x="5537160" y="2176200"/>
            <a:ext cx="3238560" cy="3152880"/>
          </a:xfrm>
          <a:custGeom>
            <a:avLst/>
            <a:gdLst>
              <a:gd name="textAreaLeft" fmla="*/ 474120 w 3238560"/>
              <a:gd name="textAreaRight" fmla="*/ 2764440 w 3238560"/>
              <a:gd name="textAreaTop" fmla="*/ 461520 h 3152880"/>
              <a:gd name="textAreaBottom" fmla="*/ 2691360 h 31528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4632480" y="4098960"/>
          <a:ext cx="31680" cy="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4098960"/>
                    <a:ext cx="3168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3"/>
          <p:cNvSpPr/>
          <p:nvPr/>
        </p:nvSpPr>
        <p:spPr>
          <a:xfrm>
            <a:off x="152388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DRGs Implementation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609480" y="1523880"/>
          <a:ext cx="8229600" cy="449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lthcare system outputs rather than inp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27792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00000"/>
                </a:solidFill>
                <a:latin typeface="Arial"/>
              </a:rPr>
              <a:t>How does your garden grow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1654200"/>
          <a:ext cx="403848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4200"/>
                    <a:ext cx="403848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620640" y="3941640"/>
          <a:ext cx="371016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3941640"/>
                    <a:ext cx="37101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0"/>
          <p:cNvGraphicFramePr/>
          <p:nvPr/>
        </p:nvGraphicFramePr>
        <p:xfrm>
          <a:off x="5051520" y="4024440"/>
          <a:ext cx="3624120" cy="2023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1520" y="4024440"/>
                    <a:ext cx="362412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3"/>
          <p:cNvGraphicFramePr/>
          <p:nvPr/>
        </p:nvGraphicFramePr>
        <p:xfrm>
          <a:off x="4643280" y="1700280"/>
          <a:ext cx="4038840" cy="1873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2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1700280"/>
                    <a:ext cx="403884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7"/>
          <p:cNvGraphicFramePr/>
          <p:nvPr/>
        </p:nvGraphicFramePr>
        <p:xfrm>
          <a:off x="725400" y="838080"/>
          <a:ext cx="7653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838080"/>
                    <a:ext cx="7653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Box 1"/>
          <p:cNvSpPr/>
          <p:nvPr/>
        </p:nvSpPr>
        <p:spPr>
          <a:xfrm>
            <a:off x="1216440" y="457200"/>
            <a:ext cx="71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BUDGET ALLOCATIONS AFFECT HOSPITAL EXPENDI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1324080" y="5848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36520" y="5410080"/>
            <a:ext cx="86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1982, Congress mandated the use of a prospective payment system and in 1983 the Medicare program implemented a DRG-based payment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842480" y="5214960"/>
            <a:ext cx="540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edicare Spending as a Percent of Total Health Expenditures, 1970–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134360" y="3240"/>
            <a:ext cx="700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y Did USA Medicare Program Deci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 Use DRGs for Pay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1000080" y="1317600"/>
          <a:ext cx="68580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317600"/>
                    <a:ext cx="68580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6"/>
          <p:cNvSpPr/>
          <p:nvPr/>
        </p:nvSpPr>
        <p:spPr>
          <a:xfrm>
            <a:off x="214200" y="6070680"/>
            <a:ext cx="87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Katharine Levit et al., “Health Spending Rebound Continues in 2002,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alth Affair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January/February 200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vider Paymen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TEMISED BILLING – “Fee for Ser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NDLED BILLING – “Per episo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PITATION FUNDING – “Per pati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LOBAL BUDGETS – “Historic pl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agnoses are more useful than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clinical dis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inician is the resour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on procedures means more procedures results in more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value for money (outcome) is more important than the lowest cost or the the greatest quantity of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want to know about DR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ant to know about DR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dea of resource homogenous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within groups should be related to the average or benchmark cost of providing the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st is too vari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viders may select only the least complex lowest cost cases. “cream skimm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viders may be at risk of getting the most complex and expensive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ALYSIS OF DAT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 BOTH PAYER AND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dea of clinically meaningful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scribing healthcar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must contain like with like cases from a clinical point of view – e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skills and facilities required to treat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milar care protocol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parable in terms of outcome expec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dea of the Diagnosis Related Group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896240" cy="5778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>
            <a:off x="1224360" y="609480"/>
            <a:ext cx="686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o, in summary, DRGs: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Describe the number and type of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Mix of cases – limited number of categ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Resource homogeneity, Clinical meaning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Used: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s funding indicator or payment scale BUT AL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compare how different hospitals treat patients in different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identify treatment tr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n quality improvement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o identify the types of patients hospitals tr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For retrospective data analysis for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ing for health services based on activity rather than expendi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Y DRG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USED EFFETIVELY AS A FUND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RG’s help to focus on hospital efficiency and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RG’s help to contain growth in hospital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DRG IS JUST THE TOOL NOT TH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4"/>
          <p:cNvGraphicFramePr/>
          <p:nvPr/>
        </p:nvGraphicFramePr>
        <p:xfrm>
          <a:off x="2500200" y="189000"/>
          <a:ext cx="648180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189000"/>
                    <a:ext cx="64818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179280" y="274680"/>
            <a:ext cx="266400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00080"/>
                </a:solidFill>
                <a:latin typeface="Verdana"/>
              </a:rPr>
              <a:t>5 major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AU" sz="3600" spc="-1" strike="noStrike">
                <a:solidFill>
                  <a:srgbClr val="800080"/>
                </a:solidFill>
                <a:latin typeface="Verdana"/>
              </a:rPr>
              <a:t> group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140360" y="179280"/>
            <a:ext cx="1584000" cy="64897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50920" y="3141720"/>
            <a:ext cx="2663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6600"/>
                </a:solidFill>
                <a:latin typeface="Verdana"/>
              </a:rPr>
              <a:t>18 major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product </a:t>
            </a:r>
            <a:r>
              <a:rPr b="0" lang="en-AU" sz="3600" spc="-1" strike="noStrike">
                <a:solidFill>
                  <a:srgbClr val="006600"/>
                </a:solidFill>
                <a:latin typeface="Verdana"/>
              </a:rPr>
              <a:t>subgroup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7236000" y="189000"/>
            <a:ext cx="1728720" cy="6480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780000" y="3857760"/>
            <a:ext cx="5214600" cy="10191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ospital Inpatient 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als,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fficient use of available resources such as same day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ose integration with non-acute care settings to support early discharge and effective post discharg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od health outcomes and minimisation of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ptimisation of patient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pisode focus – eg 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nents of a drg fund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needed to fund a hospital system by DRG payments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onent 1: Data Elements Required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 Assign Cases to DR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33520" y="1187280"/>
            <a:ext cx="4038480" cy="224172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D-10-AM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cipal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diagnoses, complication, co morbid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dure/s (ACH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3680" y="3549600"/>
            <a:ext cx="4038480" cy="129528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Admission Date and Date of Bi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92120" y="4952880"/>
            <a:ext cx="4038480" cy="178452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of separation (discharge sta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Standard, includes died, transfer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853160" y="1339920"/>
            <a:ext cx="4114800" cy="53316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818240" y="3244680"/>
            <a:ext cx="41148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-day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818240" y="4083120"/>
            <a:ext cx="4114800" cy="147960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born admission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ge 28 days or less, plus older if less than 2500 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853160" y="5715000"/>
            <a:ext cx="4114800" cy="99072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sive  care 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10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in ICU, H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853160" y="2025720"/>
            <a:ext cx="4114800" cy="1022400"/>
          </a:xfrm>
          <a:prstGeom prst="rect">
            <a:avLst/>
          </a:prstGeom>
          <a:solidFill>
            <a:srgbClr val="80008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St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235080">
              <a:lnSpc>
                <a:spcPct val="90000"/>
              </a:lnSpc>
              <a:spcBef>
                <a:spcPts val="550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Admission and Separation 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onent 2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IS TH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0" y="3213000"/>
            <a:ext cx="3419640" cy="2448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Three days in hos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90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771640" y="1341360"/>
            <a:ext cx="4032360" cy="3384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Three days of nur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30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179280" y="1341360"/>
            <a:ext cx="3311640" cy="2448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naesthesi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theatre p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100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5940360" y="1341360"/>
            <a:ext cx="2808360" cy="2448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Ten pathology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25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5724360" y="3141720"/>
            <a:ext cx="3168720" cy="2520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Eight specialist consul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= 400YT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j0286034"/>
          <p:cNvPicPr/>
          <p:nvPr/>
        </p:nvPicPr>
        <p:blipFill>
          <a:blip r:embed="rId1"/>
          <a:stretch/>
        </p:blipFill>
        <p:spPr>
          <a:xfrm>
            <a:off x="7956720" y="404640"/>
            <a:ext cx="919080" cy="885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9"/>
          <p:cNvSpPr/>
          <p:nvPr/>
        </p:nvSpPr>
        <p:spPr>
          <a:xfrm>
            <a:off x="3208320" y="5211720"/>
            <a:ext cx="443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? 1000+300=1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? 1000+300+400=1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? 1000+900+300+250+400=28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2"/>
          <a:stretch/>
        </p:blipFill>
        <p:spPr>
          <a:xfrm>
            <a:off x="1908000" y="5157720"/>
            <a:ext cx="120816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"/>
          <p:cNvPicPr/>
          <p:nvPr/>
        </p:nvPicPr>
        <p:blipFill>
          <a:blip r:embed="rId3"/>
          <a:stretch/>
        </p:blipFill>
        <p:spPr>
          <a:xfrm>
            <a:off x="7791480" y="5230800"/>
            <a:ext cx="884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RICHARD  MARSHALL</cp:lastModifiedBy>
  <dcterms:modified xsi:type="dcterms:W3CDTF">2011-12-03T05:03:56Z</dcterms:modified>
  <cp:revision>123</cp:revision>
  <dc:subject/>
  <dc:title>Наслов</dc:title>
</cp:coreProperties>
</file>