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7052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99528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6FF-C20F-49FC-A847-0108ABA8BD3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257120" y="680760"/>
            <a:ext cx="453996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99528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2280-25EA-46C4-A178-F95EB63F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9A70-680E-4A7F-A80C-0449BB574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9E8-DE4B-4E34-9ABC-7BCC348C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A70-C39A-4DBE-AB45-3326290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1E6-72C6-4436-8538-E206D5EE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D60-0C9E-4E8A-A410-3BE0843D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AC3-0C39-4857-BA86-B706C1F6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A37-A131-4D29-A7BA-F8DDFC6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459-76F7-45A0-9A80-3376F5A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33D-161E-4F3E-95EC-46D4F7C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285-D701-463E-A56E-0C3999A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BE3-5A41-4B90-8E70-1B5F016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551-E520-419E-AA7B-CA1CEC06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61A-6402-4CF7-A78A-8F315E3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82E-86B6-4784-BE9B-361AAA98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597-D00A-4AC0-A77B-628DC61D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5 - 11.3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dnesday,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and Repor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Length of Stay (ALOS) of Medical &amp; Procedural DRGs of all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ALOS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weighted DRG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for Medical and Procedural DRGs by severity level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ajor Co-morbidities and Complication (MCC) by MDC for Medic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for Procedural DRGs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/ CMI by discharged specialty: 4-year trend analysi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eporting policies and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specification (eg NM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tra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dits and valida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) metadata management,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alysis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7560" y="172800"/>
            <a:ext cx="773748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YSTEMS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70344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32092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079880" y="4648320"/>
            <a:ext cx="105408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76756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456320" y="4648320"/>
            <a:ext cx="105444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6681960" y="4343400"/>
            <a:ext cx="77436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7174080" y="3284640"/>
            <a:ext cx="914400" cy="990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195560" y="2743200"/>
            <a:ext cx="105552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516480" y="2666880"/>
            <a:ext cx="1688760" cy="129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361040" y="380988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Georgia"/>
              </a:rPr>
              <a:t>M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3165480" y="1371600"/>
            <a:ext cx="23209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5908680" y="1295280"/>
            <a:ext cx="1195560" cy="990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0" y="1523880"/>
            <a:ext cx="3024360" cy="838440"/>
          </a:xfrm>
          <a:prstGeom prst="parallelogram">
            <a:avLst>
              <a:gd name="adj" fmla="val 901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802120" y="9144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COGNOS,BRIO, EX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3215520" y="99072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BUSINES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50000" y="106668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SAS ,SPSS, STATA,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175896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492120" y="436572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492120" y="243828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874880" y="5830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USINES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923160" y="24922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7113600" y="14842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LAYER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690480" y="154620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TATIS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>
            <a:off x="3516480" y="548640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520524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>
            <a:off x="689292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7174080" y="5029200"/>
            <a:ext cx="28224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 flipV="1">
            <a:off x="6823080" y="5029200"/>
            <a:ext cx="2811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 flipH="1" flipV="1">
            <a:off x="6541920" y="3505320"/>
            <a:ext cx="703440" cy="3808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H="1" flipV="1">
            <a:off x="1828800" y="3809520"/>
            <a:ext cx="2813040" cy="121932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 flipH="1" flipV="1">
            <a:off x="1617840" y="3809520"/>
            <a:ext cx="1336320" cy="129564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 flipH="1" flipV="1">
            <a:off x="2039400" y="3733920"/>
            <a:ext cx="3868920" cy="12952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5"/>
          <p:cNvSpPr/>
          <p:nvPr/>
        </p:nvSpPr>
        <p:spPr>
          <a:xfrm>
            <a:off x="1547640" y="2514600"/>
            <a:ext cx="4222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6"/>
          <p:cNvSpPr/>
          <p:nvPr/>
        </p:nvSpPr>
        <p:spPr>
          <a:xfrm>
            <a:off x="3938760" y="2362320"/>
            <a:ext cx="4222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7"/>
          <p:cNvSpPr/>
          <p:nvPr/>
        </p:nvSpPr>
        <p:spPr>
          <a:xfrm>
            <a:off x="5838840" y="2438280"/>
            <a:ext cx="420840" cy="533520"/>
          </a:xfrm>
          <a:prstGeom prst="upArrow">
            <a:avLst>
              <a:gd name="adj1" fmla="val 50000"/>
              <a:gd name="adj2" fmla="val 316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8"/>
          <p:cNvSpPr/>
          <p:nvPr/>
        </p:nvSpPr>
        <p:spPr>
          <a:xfrm>
            <a:off x="8229600" y="4038480"/>
            <a:ext cx="914400" cy="10670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9"/>
          <p:cNvSpPr/>
          <p:nvPr/>
        </p:nvSpPr>
        <p:spPr>
          <a:xfrm>
            <a:off x="5697360" y="2895480"/>
            <a:ext cx="914400" cy="99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40"/>
          <p:cNvCxnSpPr/>
          <p:nvPr/>
        </p:nvCxnSpPr>
        <p:spPr>
          <a:xfrm flipV="1" rot="16200000">
            <a:off x="8233920" y="3600000"/>
            <a:ext cx="381600" cy="648360"/>
          </a:xfrm>
          <a:prstGeom prst="bentConnector2">
            <a:avLst/>
          </a:prstGeom>
          <a:ln w="7632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01" name="Text Box 41"/>
          <p:cNvSpPr/>
          <p:nvPr/>
        </p:nvSpPr>
        <p:spPr>
          <a:xfrm>
            <a:off x="92880" y="443088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Georgia"/>
              </a:rPr>
              <a:t>Oracle, SAP,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349800" y="428760"/>
            <a:ext cx="3771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Financi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87280" y="1581120"/>
            <a:ext cx="352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Minimum Basic Data Set-DRG Data Entr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linical Data,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esource Consump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36520" y="3000240"/>
            <a:ext cx="1650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analysis tool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572160" y="4500720"/>
            <a:ext cx="212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mbo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34800" y="5357880"/>
            <a:ext cx="3094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ding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572000" y="448164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ICQ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77080" y="5286240"/>
            <a:ext cx="17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st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357960" y="150804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Cost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-Alloc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798680" y="3579840"/>
            <a:ext cx="108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(cos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336720" y="3579840"/>
            <a:ext cx="144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volumefil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858560" y="3786120"/>
            <a:ext cx="98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AU" sz="1800" spc="-1" strike="noStrike">
                <a:solidFill>
                  <a:srgbClr val="ff0000"/>
                </a:solidFill>
                <a:latin typeface="Verdana"/>
              </a:rPr>
              <a:t>CASE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643200" y="5410080"/>
            <a:ext cx="30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ata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5"/>
          <p:cNvCxnSpPr>
            <a:stCxn id="102" idx="2"/>
            <a:endCxn id="103" idx="0"/>
          </p:cNvCxnSpPr>
          <p:nvPr/>
        </p:nvCxnSpPr>
        <p:spPr>
          <a:xfrm rot="5400000">
            <a:off x="3872520" y="218880"/>
            <a:ext cx="442080" cy="22834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16"/>
          <p:cNvCxnSpPr>
            <a:stCxn id="102" idx="2"/>
            <a:endCxn id="109" idx="0"/>
          </p:cNvCxnSpPr>
          <p:nvPr/>
        </p:nvCxnSpPr>
        <p:spPr>
          <a:xfrm flipH="1" rot="16200000">
            <a:off x="6206040" y="168840"/>
            <a:ext cx="369000" cy="23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7"/>
          <p:cNvCxnSpPr>
            <a:stCxn id="103" idx="2"/>
          </p:cNvCxnSpPr>
          <p:nvPr/>
        </p:nvCxnSpPr>
        <p:spPr>
          <a:xfrm flipH="1" rot="16200000">
            <a:off x="4062240" y="1670760"/>
            <a:ext cx="240480" cy="2461320"/>
          </a:xfrm>
          <a:prstGeom prst="bentConnector3">
            <a:avLst>
              <a:gd name="adj1" fmla="val 496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8"/>
          <p:cNvCxnSpPr>
            <a:stCxn id="111" idx="2"/>
            <a:endCxn id="105" idx="0"/>
          </p:cNvCxnSpPr>
          <p:nvPr/>
        </p:nvCxnSpPr>
        <p:spPr>
          <a:xfrm flipH="1" rot="16200000">
            <a:off x="7073640" y="3939120"/>
            <a:ext cx="545400" cy="578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9"/>
          <p:cNvCxnSpPr>
            <a:stCxn id="110" idx="2"/>
            <a:endCxn id="105" idx="0"/>
          </p:cNvCxnSpPr>
          <p:nvPr/>
        </p:nvCxnSpPr>
        <p:spPr>
          <a:xfrm rot="5400000">
            <a:off x="7715880" y="3875760"/>
            <a:ext cx="545400" cy="70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0"/>
          <p:cNvCxnSpPr>
            <a:endCxn id="111" idx="0"/>
          </p:cNvCxnSpPr>
          <p:nvPr/>
        </p:nvCxnSpPr>
        <p:spPr>
          <a:xfrm>
            <a:off x="6183360" y="3209760"/>
            <a:ext cx="875520" cy="37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Text Box 21"/>
          <p:cNvSpPr/>
          <p:nvPr/>
        </p:nvSpPr>
        <p:spPr>
          <a:xfrm>
            <a:off x="6523920" y="2589120"/>
            <a:ext cx="220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preparecostsheet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22"/>
          <p:cNvCxnSpPr>
            <a:stCxn id="109" idx="2"/>
            <a:endCxn id="120" idx="0"/>
          </p:cNvCxnSpPr>
          <p:nvPr/>
        </p:nvCxnSpPr>
        <p:spPr>
          <a:xfrm flipH="1" rot="16200000">
            <a:off x="7371360" y="2332080"/>
            <a:ext cx="430920" cy="8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23"/>
          <p:cNvCxnSpPr>
            <a:stCxn id="120" idx="2"/>
            <a:endCxn id="110" idx="0"/>
          </p:cNvCxnSpPr>
          <p:nvPr/>
        </p:nvCxnSpPr>
        <p:spPr>
          <a:xfrm flipH="1" rot="16200000">
            <a:off x="7677000" y="2915640"/>
            <a:ext cx="615240" cy="71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24"/>
          <p:cNvSpPr/>
          <p:nvPr/>
        </p:nvSpPr>
        <p:spPr>
          <a:xfrm>
            <a:off x="1071720" y="4068720"/>
            <a:ext cx="335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iagnosis and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ocedures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25"/>
          <p:cNvCxnSpPr>
            <a:stCxn id="103" idx="1"/>
          </p:cNvCxnSpPr>
          <p:nvPr/>
        </p:nvCxnSpPr>
        <p:spPr>
          <a:xfrm flipV="1" rot="10800000">
            <a:off x="999360" y="2180880"/>
            <a:ext cx="187920" cy="317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26"/>
          <p:cNvCxnSpPr>
            <a:stCxn id="103" idx="2"/>
          </p:cNvCxnSpPr>
          <p:nvPr/>
        </p:nvCxnSpPr>
        <p:spPr>
          <a:xfrm rot="5400000">
            <a:off x="2295000" y="3414600"/>
            <a:ext cx="129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27"/>
          <p:cNvCxnSpPr/>
          <p:nvPr/>
        </p:nvCxnSpPr>
        <p:spPr>
          <a:xfrm flipH="1" rot="16200000">
            <a:off x="5164200" y="3550320"/>
            <a:ext cx="405360" cy="198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28"/>
          <p:cNvCxnSpPr>
            <a:stCxn id="112" idx="2"/>
            <a:endCxn id="107" idx="0"/>
          </p:cNvCxnSpPr>
          <p:nvPr/>
        </p:nvCxnSpPr>
        <p:spPr>
          <a:xfrm flipH="1" rot="16200000">
            <a:off x="5281560" y="4225680"/>
            <a:ext cx="326160" cy="18648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29"/>
          <p:cNvCxnSpPr>
            <a:stCxn id="107" idx="2"/>
            <a:endCxn id="113" idx="0"/>
          </p:cNvCxnSpPr>
          <p:nvPr/>
        </p:nvCxnSpPr>
        <p:spPr>
          <a:xfrm rot="5400000">
            <a:off x="5065920" y="4939200"/>
            <a:ext cx="559080" cy="38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30"/>
          <p:cNvCxnSpPr>
            <a:stCxn id="105" idx="2"/>
            <a:endCxn id="108" idx="0"/>
          </p:cNvCxnSpPr>
          <p:nvPr/>
        </p:nvCxnSpPr>
        <p:spPr>
          <a:xfrm flipH="1" rot="16200000">
            <a:off x="7482600" y="5028840"/>
            <a:ext cx="410040" cy="105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ING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or r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mary mechanism to assess innovation and invest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reports may 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various quali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follow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 total Weighted Episode (WEs) of all hospi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erformance in total WEs against target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ajor Diagnostic Categories (MDC) for Medical Diagnosis Related Group (DRGs)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DC for Procedur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increment DRG families by hos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decrement DRG familie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of Medical and Procedural DRGs of all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(CMI)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Es per patient by MDC in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episodes per patient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– “1 Year 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same day episodes by MDC of Medical and Procedural DRGs by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ame day episodes of Ambulatory Medical DR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episodes admitted via A&amp;E Department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7:27Z</dcterms:modified>
  <cp:revision>180</cp:revision>
  <dc:subject/>
  <dc:title>Наслов</dc:title>
</cp:coreProperties>
</file>