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BAB8-A440-412D-871B-F2E03474A46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2B71-C107-47A1-B949-6D858E062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667E-6FCA-4632-974E-AA4EF3646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AA11-3ADB-41B4-8A88-61B522FB7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A933-4EF0-44AA-977B-D7D9DBA73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33C5-EC5C-46CA-A47A-6CBEA6A8D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9412-3042-4D01-B9BC-2669E5C83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91AE-BAB4-4C12-BC6C-74631D4A4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0BD4-88CF-4808-BCA1-43A88FCDF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77AA-8822-46FB-86D9-F74A7283C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BE68-35E7-4A5F-AF7B-5AE03AA50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CF71-94C2-4A3A-9694-F20B997D218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1A9D-6F8F-4030-8F6F-3231165BF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0341-7838-4029-8A22-78B8CCA6F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5E26-03EE-4A04-956F-BE834C52B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E246-5B0E-48AF-9A3C-709ECFADE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2B20-2B12-4081-A13F-D0C90CCEB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E3DE-26A4-4046-BF5C-34A59C92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1A79-A85E-42AA-AECB-51937736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A38-E640-49D5-94D3-1C1C57DA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16C5-1CC3-4EFB-BDCB-B9F7A7E5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DE3-EDD3-4385-97A2-8931A670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0C8-FF93-4F6E-9E18-3806EE89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DB9-2276-4A51-9025-89442D41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995-0D21-4B1E-BBA0-F4B83834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39A-12E8-4A14-95C1-7C3BC3BF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015-B59E-46AC-BDE0-B3591AE6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FCBC-381B-4036-A8EE-57B995C8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924-172E-4EF6-95AC-E89E6F91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3454-C5C9-4870-8282-02E2856A2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10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google.com/search?client=safari&amp;rls=en&amp;q=national+health+data+dictionary+version+15&amp;ie=UTF-8&amp;oe=UTF-8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7320" y="3700440"/>
            <a:ext cx="867564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 Mars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00 - 10.45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uesday,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6th Decembe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LLECTION BASIC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blishing the National Health Data Dictio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term project multiple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nsus governance complex and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 US HIPAA la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hhs.gov/ocr/privacy/hipaa/administrative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ve special purpose variants based on and mappable to the cor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NATIONAL HEALTH DATA DICTION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KEY DATA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INIMUM DATASET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PORT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TERNATIONAL AFFILIATION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UPPORT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ATIONAL HEALTHCARE AGRE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ROVIDER CONTRACTS AND S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alia’s NHD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0" descr=""/>
          <p:cNvPicPr/>
          <p:nvPr/>
        </p:nvPicPr>
        <p:blipFill>
          <a:blip r:embed="rId1"/>
          <a:stretch/>
        </p:blipFill>
        <p:spPr>
          <a:xfrm>
            <a:off x="1295280" y="1353960"/>
            <a:ext cx="6400800" cy="4513320"/>
          </a:xfrm>
          <a:prstGeom prst="rect">
            <a:avLst/>
          </a:prstGeom>
          <a:ln w="0">
            <a:noFill/>
          </a:ln>
        </p:spPr>
      </p:pic>
      <p:sp>
        <p:nvSpPr>
          <p:cNvPr id="91" name="TextBox 21"/>
          <p:cNvSpPr/>
          <p:nvPr/>
        </p:nvSpPr>
        <p:spPr>
          <a:xfrm>
            <a:off x="352080" y="5867280"/>
            <a:ext cx="847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oogle.com/search?client=safari&amp;rls=en&amp;q=national+health+data+dictionary+version+15&amp;ie=UTF-8&amp;oe=UTF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505320" cy="4495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2"/>
          <a:stretch/>
        </p:blipFill>
        <p:spPr>
          <a:xfrm>
            <a:off x="4317840" y="1371600"/>
            <a:ext cx="3988080" cy="128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3"/>
          <a:stretch/>
        </p:blipFill>
        <p:spPr>
          <a:xfrm>
            <a:off x="4419720" y="2514600"/>
            <a:ext cx="3809880" cy="3352680"/>
          </a:xfrm>
          <a:prstGeom prst="rect">
            <a:avLst/>
          </a:prstGeom>
          <a:ln w="0">
            <a:noFill/>
          </a:ln>
        </p:spPr>
      </p:pic>
      <p:sp>
        <p:nvSpPr>
          <p:cNvPr id="95" name="Title 2"/>
          <p:cNvSpPr/>
          <p:nvPr/>
        </p:nvSpPr>
        <p:spPr>
          <a:xfrm>
            <a:off x="1143000" y="274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xample of a Data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4114800" y="4343400"/>
            <a:ext cx="213372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6"/>
          <p:cNvSpPr/>
          <p:nvPr/>
        </p:nvSpPr>
        <p:spPr>
          <a:xfrm>
            <a:off x="4191120" y="3733920"/>
            <a:ext cx="213336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5"/>
          <p:cNvSpPr/>
          <p:nvPr/>
        </p:nvSpPr>
        <p:spPr>
          <a:xfrm>
            <a:off x="3962520" y="1295280"/>
            <a:ext cx="21333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76320" y="2819520"/>
            <a:ext cx="213336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380880" y="1600200"/>
            <a:ext cx="213372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8"/>
          <p:cNvSpPr/>
          <p:nvPr/>
        </p:nvSpPr>
        <p:spPr>
          <a:xfrm>
            <a:off x="4038480" y="1523880"/>
            <a:ext cx="21337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llection and reporting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downloads from hospital Patient Administration Systems (P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ing from clinical records and discharge summaries to 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interfaced data entry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edit and audit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warehousing and data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management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44280"/>
            <a:ext cx="699912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YSTEMS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703440" y="4648320"/>
            <a:ext cx="1055520" cy="1218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320920" y="4648320"/>
            <a:ext cx="1055520" cy="1218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4079880" y="4648320"/>
            <a:ext cx="1054080" cy="1218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F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5767560" y="4648320"/>
            <a:ext cx="1055520" cy="1218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7456320" y="4648320"/>
            <a:ext cx="1054440" cy="12189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6681960" y="4343400"/>
            <a:ext cx="774360" cy="6858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7174080" y="3284640"/>
            <a:ext cx="914400" cy="9903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1195560" y="2743200"/>
            <a:ext cx="1055520" cy="12193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Aggre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3516480" y="2666880"/>
            <a:ext cx="1688760" cy="12956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A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E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4361040" y="3809880"/>
            <a:ext cx="12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00"/>
                </a:solidFill>
                <a:latin typeface="Georgia"/>
              </a:rPr>
              <a:t>MD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3"/>
          <p:cNvSpPr/>
          <p:nvPr/>
        </p:nvSpPr>
        <p:spPr>
          <a:xfrm>
            <a:off x="3165480" y="1371600"/>
            <a:ext cx="2320920" cy="914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4"/>
          <p:cNvSpPr/>
          <p:nvPr/>
        </p:nvSpPr>
        <p:spPr>
          <a:xfrm>
            <a:off x="5908680" y="1295280"/>
            <a:ext cx="1195560" cy="990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C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IV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5"/>
          <p:cNvSpPr/>
          <p:nvPr/>
        </p:nvSpPr>
        <p:spPr>
          <a:xfrm>
            <a:off x="0" y="1523880"/>
            <a:ext cx="3024360" cy="838440"/>
          </a:xfrm>
          <a:prstGeom prst="parallelogram">
            <a:avLst>
              <a:gd name="adj" fmla="val 9017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5805000" y="91440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eg. COGNOS,BRIO, EX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3399120" y="990720"/>
            <a:ext cx="235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eg. BUSINESS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208080" y="1052640"/>
            <a:ext cx="30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eg. SAS ,SPSS, STATA,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758960" y="5486400"/>
            <a:ext cx="49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492120" y="4365720"/>
            <a:ext cx="80899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492120" y="2438280"/>
            <a:ext cx="80899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6243480" y="5830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USINES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6923160" y="2492280"/>
            <a:ext cx="224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WARE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7113600" y="1484280"/>
            <a:ext cx="21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REPOR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Georgia"/>
              </a:rPr>
              <a:t>LAYER (M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690480" y="1546200"/>
            <a:ext cx="196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STATIST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3516480" y="5486400"/>
            <a:ext cx="493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5205240" y="5486400"/>
            <a:ext cx="49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6892920" y="5486400"/>
            <a:ext cx="49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7174080" y="5029200"/>
            <a:ext cx="28224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 flipV="1">
            <a:off x="6823080" y="5029200"/>
            <a:ext cx="28116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 flipH="1" flipV="1">
            <a:off x="6541920" y="3505320"/>
            <a:ext cx="703440" cy="380880"/>
          </a:xfrm>
          <a:prstGeom prst="line">
            <a:avLst/>
          </a:prstGeom>
          <a:ln w="5724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2"/>
          <p:cNvSpPr/>
          <p:nvPr/>
        </p:nvSpPr>
        <p:spPr>
          <a:xfrm flipH="1" flipV="1">
            <a:off x="1828800" y="3809520"/>
            <a:ext cx="2813040" cy="1219320"/>
          </a:xfrm>
          <a:prstGeom prst="line">
            <a:avLst/>
          </a:prstGeom>
          <a:ln w="5724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 flipH="1" flipV="1">
            <a:off x="1617840" y="3809520"/>
            <a:ext cx="1336320" cy="1295640"/>
          </a:xfrm>
          <a:prstGeom prst="line">
            <a:avLst/>
          </a:prstGeom>
          <a:ln w="5724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 flipH="1" flipV="1">
            <a:off x="2039400" y="3733920"/>
            <a:ext cx="3868920" cy="1295280"/>
          </a:xfrm>
          <a:prstGeom prst="line">
            <a:avLst/>
          </a:prstGeom>
          <a:ln w="5724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5"/>
          <p:cNvSpPr/>
          <p:nvPr/>
        </p:nvSpPr>
        <p:spPr>
          <a:xfrm>
            <a:off x="1547640" y="2514600"/>
            <a:ext cx="42228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6"/>
          <p:cNvSpPr/>
          <p:nvPr/>
        </p:nvSpPr>
        <p:spPr>
          <a:xfrm>
            <a:off x="3938760" y="2362320"/>
            <a:ext cx="42228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7"/>
          <p:cNvSpPr/>
          <p:nvPr/>
        </p:nvSpPr>
        <p:spPr>
          <a:xfrm>
            <a:off x="5838840" y="2438280"/>
            <a:ext cx="420840" cy="533520"/>
          </a:xfrm>
          <a:prstGeom prst="upArrow">
            <a:avLst>
              <a:gd name="adj1" fmla="val 50000"/>
              <a:gd name="adj2" fmla="val 3169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8"/>
          <p:cNvSpPr/>
          <p:nvPr/>
        </p:nvSpPr>
        <p:spPr>
          <a:xfrm>
            <a:off x="8229600" y="4038480"/>
            <a:ext cx="914400" cy="10670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C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9"/>
          <p:cNvSpPr/>
          <p:nvPr/>
        </p:nvSpPr>
        <p:spPr>
          <a:xfrm>
            <a:off x="5697360" y="2895480"/>
            <a:ext cx="914400" cy="9907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M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D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AutoShape 40"/>
          <p:cNvCxnSpPr/>
          <p:nvPr/>
        </p:nvCxnSpPr>
        <p:spPr>
          <a:xfrm flipV="1" rot="16200000">
            <a:off x="8233920" y="3600000"/>
            <a:ext cx="381600" cy="648360"/>
          </a:xfrm>
          <a:prstGeom prst="bentConnector2">
            <a:avLst/>
          </a:prstGeom>
          <a:ln w="7632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sp>
        <p:nvSpPr>
          <p:cNvPr id="143" name="Text Box 41"/>
          <p:cNvSpPr/>
          <p:nvPr/>
        </p:nvSpPr>
        <p:spPr>
          <a:xfrm>
            <a:off x="93600" y="44308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Georgia"/>
              </a:rPr>
              <a:t>eg. Oracle, SAP,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data to be use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bservations are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ata items are able to be retrie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easy are they to abstr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onsistent a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omprehensive is the coll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valid? - relevant to the purpo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reliable? - why are they recor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Hospital funding schemes in other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GERMANY – CASEMIX (DRG) PAYMENT - iNE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UK – (HRG) - PAYMENT BY RESULTS (Pb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USA – DRG – PROSPECTIVE PAY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SLOVENIA – DRG - SAME SERVICE SAME PR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HONG KONG – P4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ABF = EPISODE PAYMENT =CASEMIX =PBR =PFP =DRG FUNDING 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8960" y="104760"/>
            <a:ext cx="78483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semix Developmental Ele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Diagram 3" descr=""/>
          <p:cNvPicPr/>
          <p:nvPr/>
        </p:nvPicPr>
        <p:blipFill>
          <a:blip r:embed="rId1"/>
          <a:stretch/>
        </p:blipFill>
        <p:spPr>
          <a:xfrm>
            <a:off x="96840" y="895320"/>
            <a:ext cx="8950320" cy="566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44720" y="1371600"/>
            <a:ext cx="8045280" cy="551340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1959120" y="4218120"/>
            <a:ext cx="936360" cy="42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D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419840" y="358920"/>
            <a:ext cx="752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PERFORMANCE ELEMENTS (HK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L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DATA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 for service claims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sode of care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bidity’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ctivity from a provider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ular specialty area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ular phase of care or care-typ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ING DATA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S DATA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TS/PAS Data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154160" y="1268280"/>
            <a:ext cx="6802560" cy="53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10"/>
          <p:cNvSpPr/>
          <p:nvPr/>
        </p:nvSpPr>
        <p:spPr>
          <a:xfrm>
            <a:off x="0" y="0"/>
            <a:ext cx="8881920" cy="685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1"/>
          <p:cNvSpPr/>
          <p:nvPr/>
        </p:nvSpPr>
        <p:spPr>
          <a:xfrm>
            <a:off x="866880" y="2522520"/>
            <a:ext cx="2873160" cy="3173400"/>
          </a:xfrm>
          <a:prstGeom prst="ellipse">
            <a:avLst/>
          </a:prstGeom>
          <a:solidFill>
            <a:srgbClr val="000000">
              <a:alpha val="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PRIMARY CAR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2"/>
          <p:cNvSpPr/>
          <p:nvPr/>
        </p:nvSpPr>
        <p:spPr>
          <a:xfrm>
            <a:off x="2500200" y="571680"/>
            <a:ext cx="3025800" cy="3098520"/>
          </a:xfrm>
          <a:prstGeom prst="ellipse">
            <a:avLst/>
          </a:prstGeom>
          <a:solidFill>
            <a:srgbClr val="000000">
              <a:alpha val="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&gt;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3"/>
          <p:cNvSpPr/>
          <p:nvPr/>
        </p:nvSpPr>
        <p:spPr>
          <a:xfrm>
            <a:off x="4419720" y="1690560"/>
            <a:ext cx="3252600" cy="3173400"/>
          </a:xfrm>
          <a:prstGeom prst="ellipse">
            <a:avLst/>
          </a:prstGeom>
          <a:solidFill>
            <a:srgbClr val="000000">
              <a:alpha val="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PRINCIPAL INTENTION OF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3587760" y="3684600"/>
            <a:ext cx="3252600" cy="3173400"/>
          </a:xfrm>
          <a:prstGeom prst="ellipse">
            <a:avLst/>
          </a:prstGeom>
          <a:solidFill>
            <a:srgbClr val="000000">
              <a:alpha val="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FUNCTIONAL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&lt;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6"/>
          <p:cNvSpPr/>
          <p:nvPr/>
        </p:nvSpPr>
        <p:spPr>
          <a:xfrm>
            <a:off x="1774800" y="3684600"/>
            <a:ext cx="3251160" cy="3173400"/>
          </a:xfrm>
          <a:prstGeom prst="ellipse">
            <a:avLst/>
          </a:prstGeom>
          <a:solidFill>
            <a:srgbClr val="000000">
              <a:alpha val="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PDX C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1,2 O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4067280" y="476280"/>
            <a:ext cx="4387680" cy="2494080"/>
          </a:xfrm>
          <a:prstGeom prst="ellipse">
            <a:avLst/>
          </a:prstGeom>
          <a:solidFill>
            <a:srgbClr val="000000">
              <a:alpha val="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ADMITTED OR NON AD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8"/>
          <p:cNvSpPr/>
          <p:nvPr/>
        </p:nvSpPr>
        <p:spPr>
          <a:xfrm>
            <a:off x="866880" y="633240"/>
            <a:ext cx="2720880" cy="2872080"/>
          </a:xfrm>
          <a:prstGeom prst="ellipse">
            <a:avLst/>
          </a:prstGeom>
          <a:solidFill>
            <a:srgbClr val="000000">
              <a:alpha val="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SDX C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PROC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9"/>
          <p:cNvSpPr/>
          <p:nvPr/>
        </p:nvSpPr>
        <p:spPr>
          <a:xfrm>
            <a:off x="5556240" y="2673360"/>
            <a:ext cx="3249720" cy="3173400"/>
          </a:xfrm>
          <a:prstGeom prst="ellipse">
            <a:avLst/>
          </a:prstGeom>
          <a:solidFill>
            <a:srgbClr val="000000">
              <a:alpha val="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DIS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1676520" y="1429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2d2d8a"/>
                </a:solidFill>
                <a:latin typeface="Arial"/>
              </a:rPr>
              <a:t>COST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ational Minimum Data Set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porting requirement multiple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cess to mai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and rigorous standards – but variabl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t and valid for compa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is required DSS for pay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ient to maintain with NH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1:38:04Z</dcterms:created>
  <dc:creator>Dragana</dc:creator>
  <dc:description/>
  <dc:language>en-US</dc:language>
  <cp:lastModifiedBy>marijanao</cp:lastModifiedBy>
  <dcterms:modified xsi:type="dcterms:W3CDTF">2011-12-21T06:17:53Z</dcterms:modified>
  <cp:revision>140</cp:revision>
  <dc:subject/>
  <dc:title>Наслов</dc:title>
</cp:coreProperties>
</file>