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AC2-E83F-4018-88FC-7218EE2869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D83-E7F5-49D2-8EC4-0C7A7A5F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4DA-DCB4-4B58-A3F1-A54C98E0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931-1007-4FA4-A0B3-D7B6E225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00E-7A05-4289-A115-44D1AD3DD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AC7-8115-456A-A9BE-F791ADB3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DF8-C00F-45D9-ADF4-CF0E6EB4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881D-BC83-4E3B-A920-7BEF7809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4D2-1EF1-4760-B23E-3E33F405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184-AF04-466B-BD03-A150EFF2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216C-6F01-4AF8-9B67-8D9F8057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101-ECC0-4993-B376-C99914551D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215-162F-491F-9080-4FB28AC5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81B-C7B2-4472-9616-263398A9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879-2B42-4337-A13C-DD57ED6F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A8A4-A08F-4D50-8600-370A9FF8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67D3-FD02-4C91-AC8E-D580E452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657-DAC9-40EC-87E4-C0FB44E1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203-8745-4023-8CD1-E160AC0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38E-496B-4EAE-9E4D-2E9DE99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2A0-A9AD-400D-9B78-C313F6EA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EE2-950B-455F-A2E6-E908B448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FD6-15DC-471F-AA0C-799BA94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537-3973-41CB-A76B-686DE198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588-87F5-478A-8E2A-983F0EE4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988-114A-4A49-BD64-F57D0A5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AC1-F354-458A-A35E-CAA2FCE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D12-E80F-4997-BCD9-7A984ED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B05-8564-4F23-9199-DC11B3D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60C1-CFA7-4C35-87DB-86C4ECBF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google.com/search?client=safari&amp;rls=en&amp;q=national+health+data+dictionary+version+15&amp;ie=UTF-8&amp;oe=UTF-8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0 - 10.45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esday,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6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BAS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ing the National Health Dat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project multip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governance complex and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 US HIPAA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hs.gov/ocr/privacy/hipaa/administrativ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special purpose variants based on and mappable to the cor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ATIONAL HEALTH DATA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NIMUM DATASET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TIONAL AFFILIATION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OR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TIONAL HEALTHCARE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ER CONTRACTS AND S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’s NH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295280" y="1353960"/>
            <a:ext cx="6400800" cy="4513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1"/>
          <p:cNvSpPr/>
          <p:nvPr/>
        </p:nvSpPr>
        <p:spPr>
          <a:xfrm>
            <a:off x="352080" y="5867280"/>
            <a:ext cx="84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search?client=safari&amp;rls=en&amp;q=national+health+data+dictionary+version+15&amp;ie=UTF-8&amp;oe=UTF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4317840" y="1371600"/>
            <a:ext cx="398808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Title 2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 of a Data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4114800" y="4343400"/>
            <a:ext cx="21337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6"/>
          <p:cNvSpPr/>
          <p:nvPr/>
        </p:nvSpPr>
        <p:spPr>
          <a:xfrm>
            <a:off x="4191120" y="3733920"/>
            <a:ext cx="21333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3962520" y="1295280"/>
            <a:ext cx="2133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76320" y="2819520"/>
            <a:ext cx="213336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380880" y="1600200"/>
            <a:ext cx="21337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4038480" y="1523880"/>
            <a:ext cx="2133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and reporting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ownloads from hospital Patient Administration Systems (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from clinical records and discharge summaries to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terfaced data ent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edit and audi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ing and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managemen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44280"/>
            <a:ext cx="699912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0344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32092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079880" y="4648320"/>
            <a:ext cx="105408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76756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456320" y="4648320"/>
            <a:ext cx="105444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6681960" y="4343400"/>
            <a:ext cx="77436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7174080" y="3284640"/>
            <a:ext cx="914400" cy="990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195560" y="2743200"/>
            <a:ext cx="105552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3516480" y="2666880"/>
            <a:ext cx="1688760" cy="129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361040" y="38098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Georgia"/>
              </a:rPr>
              <a:t>M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3165480" y="1371600"/>
            <a:ext cx="23209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5908680" y="1295280"/>
            <a:ext cx="119556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0" y="1523880"/>
            <a:ext cx="3024360" cy="838440"/>
          </a:xfrm>
          <a:prstGeom prst="parallelogram">
            <a:avLst>
              <a:gd name="adj" fmla="val 901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805000" y="91440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COGNOS,BRIO, EX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399120" y="99072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BUSINESS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08080" y="1052640"/>
            <a:ext cx="30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SAS ,SPSS, STATA,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75896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492120" y="436572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92120" y="243828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243480" y="5830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USINES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923160" y="24922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113600" y="14842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LAY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690480" y="154620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3516480" y="548640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20524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89292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7174080" y="5029200"/>
            <a:ext cx="2822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V="1">
            <a:off x="6823080" y="5029200"/>
            <a:ext cx="2811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H="1" flipV="1">
            <a:off x="6541920" y="3505320"/>
            <a:ext cx="703440" cy="3808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H="1" flipV="1">
            <a:off x="1828800" y="3809520"/>
            <a:ext cx="2813040" cy="121932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 flipH="1" flipV="1">
            <a:off x="1617840" y="3809520"/>
            <a:ext cx="1336320" cy="129564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H="1" flipV="1">
            <a:off x="2039400" y="3733920"/>
            <a:ext cx="3868920" cy="12952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5"/>
          <p:cNvSpPr/>
          <p:nvPr/>
        </p:nvSpPr>
        <p:spPr>
          <a:xfrm>
            <a:off x="1547640" y="2514600"/>
            <a:ext cx="4222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6"/>
          <p:cNvSpPr/>
          <p:nvPr/>
        </p:nvSpPr>
        <p:spPr>
          <a:xfrm>
            <a:off x="3938760" y="2362320"/>
            <a:ext cx="4222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7"/>
          <p:cNvSpPr/>
          <p:nvPr/>
        </p:nvSpPr>
        <p:spPr>
          <a:xfrm>
            <a:off x="5838840" y="2438280"/>
            <a:ext cx="420840" cy="533520"/>
          </a:xfrm>
          <a:prstGeom prst="upArrow">
            <a:avLst>
              <a:gd name="adj1" fmla="val 50000"/>
              <a:gd name="adj2" fmla="val 316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8"/>
          <p:cNvSpPr/>
          <p:nvPr/>
        </p:nvSpPr>
        <p:spPr>
          <a:xfrm>
            <a:off x="8229600" y="4038480"/>
            <a:ext cx="91440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9"/>
          <p:cNvSpPr/>
          <p:nvPr/>
        </p:nvSpPr>
        <p:spPr>
          <a:xfrm>
            <a:off x="5697360" y="2895480"/>
            <a:ext cx="91440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40"/>
          <p:cNvCxnSpPr/>
          <p:nvPr/>
        </p:nvCxnSpPr>
        <p:spPr>
          <a:xfrm flipV="1" rot="16200000">
            <a:off x="8233920" y="3600000"/>
            <a:ext cx="381600" cy="648360"/>
          </a:xfrm>
          <a:prstGeom prst="bentConnector2">
            <a:avLst/>
          </a:prstGeom>
          <a:ln w="7632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43" name="Text Box 41"/>
          <p:cNvSpPr/>
          <p:nvPr/>
        </p:nvSpPr>
        <p:spPr>
          <a:xfrm>
            <a:off x="93600" y="44308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Georgia"/>
              </a:rPr>
              <a:t>eg. Oracle, SAP,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ata to be us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servations are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ta items are able to be retr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asy are they to abs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nsisten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mprehensive is the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alid? - relevant to the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eliable? - why are they recor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spital funding schemes in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ERMANY – CASEMIX (DRG) PAYMENT - iNE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K – (HRG) - PAYMENT BY RESULTS (Pb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SA – DRG – PROSPECTIVE PAY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LOVENIA – DRG - SAME SERVICE SAME PR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ONG KONG – P4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BF = EPISODE PAYMENT =CASEMIX =PBR =PFP =DRG FUNDING 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04760"/>
            <a:ext cx="7848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emix Developmental El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gram 3" descr=""/>
          <p:cNvPicPr/>
          <p:nvPr/>
        </p:nvPicPr>
        <p:blipFill>
          <a:blip r:embed="rId1"/>
          <a:stretch/>
        </p:blipFill>
        <p:spPr>
          <a:xfrm>
            <a:off x="96840" y="895320"/>
            <a:ext cx="8950320" cy="56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44720" y="1371600"/>
            <a:ext cx="8045280" cy="5513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959120" y="4218120"/>
            <a:ext cx="93636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D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19840" y="3589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ERFORMANCE ELEMENTS (HK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 for service claims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sode of car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bidity’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ctivity from a provider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specialty are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phase of care or care-typ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S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TS/PAS Data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154160" y="1268280"/>
            <a:ext cx="680256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10"/>
          <p:cNvSpPr/>
          <p:nvPr/>
        </p:nvSpPr>
        <p:spPr>
          <a:xfrm>
            <a:off x="0" y="0"/>
            <a:ext cx="8881920" cy="685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866880" y="2522520"/>
            <a:ext cx="287316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IMARY CAR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500200" y="571680"/>
            <a:ext cx="3025800" cy="309852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&gt;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4419720" y="1690560"/>
            <a:ext cx="325260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INCIPAL INTENTION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3587760" y="3684600"/>
            <a:ext cx="325260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FUNCTIONAL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1774800" y="3684600"/>
            <a:ext cx="325116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DX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1,2 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4067280" y="476280"/>
            <a:ext cx="4387680" cy="249408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ADMITTED OR NON AD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8"/>
          <p:cNvSpPr/>
          <p:nvPr/>
        </p:nvSpPr>
        <p:spPr>
          <a:xfrm>
            <a:off x="866880" y="633240"/>
            <a:ext cx="2720880" cy="287208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SDX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OC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9"/>
          <p:cNvSpPr/>
          <p:nvPr/>
        </p:nvSpPr>
        <p:spPr>
          <a:xfrm>
            <a:off x="5556240" y="2673360"/>
            <a:ext cx="324972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1676520" y="1429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d2d8a"/>
                </a:solidFill>
                <a:latin typeface="Arial"/>
              </a:rPr>
              <a:t>COST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ational Minimum Data Se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porting requirement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cess to mai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d rigorous standards – but variabl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and valid for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required DSS for pa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to maintain with NH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53Z</dcterms:modified>
  <cp:revision>140</cp:revision>
  <dc:subject/>
  <dc:title>Наслов</dc:title>
</cp:coreProperties>
</file>