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718B-97BE-47DE-AB80-8794D9D0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86A2-2DFF-49C1-A3D0-AAFA8D7A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AD29-5827-45C4-ADBD-6684AA634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C6BB-074F-4EC7-BC8C-83A68A09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E238-B6D4-42DC-B257-FF9B1147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815D-BE30-4CB7-93F3-4F289007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F3D9-9051-4A3B-B6F2-ED2E669D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CA4F-885D-4586-AA5E-F6345285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B905-5345-426E-A161-D22D9252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A4A3-7029-48A6-9452-C1A6BB3E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50C8-A9E8-45A7-BA86-BCF4E3E7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6628-028B-4583-B7ED-6B99A4D5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A3EC-8836-4D62-B25C-28B34A8F3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ogo2"/>
          <p:cNvPicPr/>
          <p:nvPr/>
        </p:nvPicPr>
        <p:blipFill>
          <a:blip r:embed="rId2">
            <a:alphaModFix amt="0"/>
          </a:blip>
          <a:srcRect l="0" t="0" r="0" b="26913"/>
          <a:stretch/>
        </p:blipFill>
        <p:spPr>
          <a:xfrm>
            <a:off x="-3816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1"/>
          <p:cNvSpPr/>
          <p:nvPr/>
        </p:nvSpPr>
        <p:spPr>
          <a:xfrm>
            <a:off x="1676520" y="617220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Calibri"/>
                <a:ea typeface="Calibri"/>
              </a:rPr>
              <a:t>Развој здравства Србије – додатно финансирањ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606060"/>
                </a:solidFill>
                <a:latin typeface="Calibri"/>
                <a:ea typeface="Calibri"/>
              </a:rPr>
              <a:t>ДСГ обука</a:t>
            </a:r>
            <a:r>
              <a:rPr b="1" lang="en-US" sz="1400" spc="-1" strike="noStrike">
                <a:solidFill>
                  <a:srgbClr val="606060"/>
                </a:solidFill>
                <a:latin typeface="Calibri"/>
                <a:ea typeface="Calibri"/>
              </a:rPr>
              <a:t>, </a:t>
            </a:r>
            <a:r>
              <a:rPr b="1" lang="sr-CS" sz="1400" spc="-1" strike="noStrike">
                <a:solidFill>
                  <a:srgbClr val="606060"/>
                </a:solidFill>
                <a:latin typeface="Calibri"/>
                <a:ea typeface="Calibri"/>
              </a:rPr>
              <a:t>5</a:t>
            </a:r>
            <a:r>
              <a:rPr b="1" lang="en-US" sz="1400" spc="-1" strike="noStrike">
                <a:solidFill>
                  <a:srgbClr val="606060"/>
                </a:solidFill>
                <a:latin typeface="Calibri"/>
                <a:ea typeface="Calibri"/>
              </a:rPr>
              <a:t>.</a:t>
            </a:r>
            <a:r>
              <a:rPr b="1" lang="sr-CS" sz="1400" spc="-1" strike="noStrike">
                <a:solidFill>
                  <a:srgbClr val="606060"/>
                </a:solidFill>
                <a:latin typeface="Calibri"/>
                <a:ea typeface="Calibri"/>
              </a:rPr>
              <a:t>12</a:t>
            </a:r>
            <a:r>
              <a:rPr b="1" lang="en-US" sz="1400" spc="-1" strike="noStrike">
                <a:solidFill>
                  <a:srgbClr val="606060"/>
                </a:solidFill>
                <a:latin typeface="Calibri"/>
                <a:ea typeface="Calibri"/>
              </a:rPr>
              <a:t>.2011</a:t>
            </a:r>
            <a:r>
              <a:rPr b="1" lang="sr-CS" sz="1400" spc="-1" strike="noStrike">
                <a:solidFill>
                  <a:srgbClr val="606060"/>
                </a:solidFill>
                <a:latin typeface="Calibri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2774880" y="2781360"/>
            <a:ext cx="3594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4" descr="pravi_grb"/>
          <p:cNvPicPr/>
          <p:nvPr/>
        </p:nvPicPr>
        <p:blipFill>
          <a:blip r:embed="rId3"/>
          <a:stretch/>
        </p:blipFill>
        <p:spPr>
          <a:xfrm>
            <a:off x="533520" y="0"/>
            <a:ext cx="571320" cy="990720"/>
          </a:xfrm>
          <a:prstGeom prst="rect">
            <a:avLst/>
          </a:prstGeom>
          <a:ln w="0">
            <a:noFill/>
          </a:ln>
        </p:spPr>
      </p:pic>
      <p:grpSp>
        <p:nvGrpSpPr>
          <p:cNvPr id="9" name="Group 47"/>
          <p:cNvGrpSpPr/>
          <p:nvPr/>
        </p:nvGrpSpPr>
        <p:grpSpPr>
          <a:xfrm>
            <a:off x="0" y="990720"/>
            <a:ext cx="1676520" cy="365040"/>
            <a:chOff x="0" y="990720"/>
            <a:chExt cx="1676520" cy="365040"/>
          </a:xfrm>
        </p:grpSpPr>
        <p:sp>
          <p:nvSpPr>
            <p:cNvPr id="10" name=""/>
            <p:cNvSpPr/>
            <p:nvPr/>
          </p:nvSpPr>
          <p:spPr>
            <a:xfrm>
              <a:off x="0" y="990720"/>
              <a:ext cx="1676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Република Србиј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МИНИСТАРСТВО ЗДРАВЉ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99072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35576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000000"/>
                </a:solidFill>
                <a:latin typeface="Arial"/>
              </a:rPr>
              <a:t>ДСГ у Србиј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р Предраг Ђук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валуирани различити ДСГ систе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828800"/>
            <a:ext cx="854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39480" indent="-33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11 ДСГ систе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(3 америчка, аустралијски, аустријски, канадски, нордијски, немачки, француски, енглески, мађарс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и аспек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дминистратив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 финансиј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 кра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устралијски и нордиј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лука о коначној препоруци ДСГ система за пилотирање у Србији је донета у сарадњи са Комором здравствених установа Србије, која је евалуирала клинички асп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устралијски ДСГ систем (AR-DR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елови AR-DRG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ласификација процедура (номенклатура услуга) – ACH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ласификација дијагноза (МКБ-10) – ICD-10-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авила кодирања/шифрирања – A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огика групис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СГ гру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илотира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200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граничена лиценца – проба ДСГ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ведени системи кодирања (шифрирања) дијагноза и процедур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пликације које помажу при кодирању и слању подат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КБ-10 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КБ-10-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илотира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ведено у 6 устано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лниц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аљево, Краљево, Ужице, Сремска Митровица, Лесковац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Ц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агујевац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дукација и обу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– 325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кара и медицинског особљ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вештав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енералије, дијагнозе, процедуре, исход, број дана, број сати на мех. вентилац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имулација за сваки коректан извешта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илотира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тинуирана подрш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ефон, ел. пошта, претраживач дијагноза и процед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олнице саме организовале извештава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на контакт осо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лика по одељењ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олнице без БИС – формулари попуњавани на папиру, па на нивоу болнице уношени у софтверску апликацију на једној радној стани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Резулта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301680" y="1600200"/>
            <a:ext cx="85183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купљено укупно 18.545 отпу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39640" y="2421000"/>
          <a:ext cx="8231400" cy="3651120"/>
        </p:xfrm>
        <a:graphic>
          <a:graphicData uri="http://schemas.openxmlformats.org/drawingml/2006/table">
            <a:tbl>
              <a:tblPr/>
              <a:tblGrid>
                <a:gridCol w="3527640"/>
                <a:gridCol w="2376360"/>
                <a:gridCol w="2327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ј отпу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гујева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ље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скова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мска Митров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3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жиц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ље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Резулта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ценат пријављених отпуста у односу на планира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агујевац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76.6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аљев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50.8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сковац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85.2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емска Митровиц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88.3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жиц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95.6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аљев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75.9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Резулта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01680" y="1341360"/>
            <a:ext cx="844704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96.6%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спешн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83.5%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 првог покуша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цена квалитета – историје болести и извештај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95280" y="2819520"/>
          <a:ext cx="8158320" cy="2946240"/>
        </p:xfrm>
        <a:graphic>
          <a:graphicData uri="http://schemas.openxmlformats.org/drawingml/2006/table">
            <a:tbl>
              <a:tblPr/>
              <a:tblGrid>
                <a:gridCol w="2041560"/>
                <a:gridCol w="2038320"/>
                <a:gridCol w="2040120"/>
                <a:gridCol w="2038320"/>
              </a:tblGrid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.узр.хосп.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теће дг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дуре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. Митров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жи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.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.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ље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.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скова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гујева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ље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.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УП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.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Резулта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01680" y="1341360"/>
            <a:ext cx="84470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528 различитих ДСГ у 6 бол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80% отпуста класификовано у 133 различита ДС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Резулта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01680" y="1600200"/>
            <a:ext cx="8302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јчешћи ДС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4360" y="2362320"/>
          <a:ext cx="8157960" cy="3462120"/>
        </p:xfrm>
        <a:graphic>
          <a:graphicData uri="http://schemas.openxmlformats.org/drawingml/2006/table">
            <a:tbl>
              <a:tblPr/>
              <a:tblGrid>
                <a:gridCol w="982440"/>
                <a:gridCol w="3970440"/>
                <a:gridCol w="1198440"/>
                <a:gridCol w="984240"/>
                <a:gridCol w="1022400"/>
              </a:tblGrid>
              <a:tr h="776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DRG n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DRG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Frequ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Perc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Weigh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R63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CHEMOTHERAP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7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4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0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P67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NEO,ADMWT &gt;2499G-SIG OR PR-PR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3.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0.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B40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PLASMAPHERESIS + NEUROLGCL D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5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3.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0.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F67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HYPERTENSION - 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5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3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0.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L60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RENAL FAILURE -CS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4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2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0.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3623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G =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С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G = Diagnostic Related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С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ијагностички сродне гру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Резулта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01680" y="1816200"/>
            <a:ext cx="823104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СГ према просечној дужини леж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24000" y="2895480"/>
          <a:ext cx="8518320" cy="3006720"/>
        </p:xfrm>
        <a:graphic>
          <a:graphicData uri="http://schemas.openxmlformats.org/drawingml/2006/table">
            <a:tbl>
              <a:tblPr/>
              <a:tblGrid>
                <a:gridCol w="1215720"/>
                <a:gridCol w="4872240"/>
                <a:gridCol w="1214280"/>
                <a:gridCol w="1216080"/>
              </a:tblGrid>
              <a:tr h="73188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DR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DRG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A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Australian DRG Weigh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I64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Osteomyelitis +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58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2.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580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P65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Neo,Admwt 1500-1999g-Sg Op+Mj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48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5.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5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H60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Cirrhosis &amp; Alc Hepatitis +C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46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3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276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E70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Whoopng Cgh &amp;Acte Brnchio+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37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1.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16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L03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Kdny,Urt&amp;Mjr Bldr Pr Npsm+Cs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33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5.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Резулта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Могућност упоређивања болниц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 benchmar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росечна дужина лежањ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1692360" y="2590920"/>
            <a:ext cx="57592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Резулта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сечна дужина лежања по дијагно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655344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Резулта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312560"/>
            <a:ext cx="8540640" cy="10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сечна дужина лежања пацијената којима је извршена процед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332000" y="2487600"/>
            <a:ext cx="640872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омента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е болнице успеле да организују извештавање упркос времену пилотирања – мај, јун, јул (одмори, извештаји) – улога мотива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валуација процеса пилотира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25 лека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64% мисли да је овај модел лакши за извешта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45% мисли да би овакав вид извештавања могао да обједини све захтеве (МЗ, РФЗО, ИЗЈЗ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92% задовољно подршком и материјалом и сматра да је она неопход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омента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960560"/>
            <a:ext cx="854064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напређено шифрирање дијагноза на четири кодна места и бележење пратећих дијагн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орбидитет и комплик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бољшано вођење медицинске документ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опходна провера пре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Главни закључци пилотирањ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722600"/>
            <a:ext cx="854064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илот је показао да је извештавање у складу са аустралијским ДСГ системом апсолутно изводљиво и применљиво у Срб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даци неопходни за груписање у ДСГ се већ рутински прикупљају у болницама. Потребна је нова форма извешта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ије неопходна пуна имплементација БИС да би се увело извештавање у складу са ДС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Главни закључци пилотирањ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ма обука неће довести до успешне имплементације систе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опходна је континуирана подрш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лико интересовање запослених да учествују у пројекту показује спремност за пром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0574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обрење за преговоре са владом Аустралије везане за набавку лиценце за аустралијски систем ДС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иценца обезбеђена у фебруар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Лицен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7524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тписана у фебруару 2011. годи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поразум са Аустралијском владом о коришћењу систем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R-DRG (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ерз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R DRG 6.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ограничен временски пери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а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мплемента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кључујући право на мање измене ради прилагођавањ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евод, коришће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граничењ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омена логике груписања, развој новог (српског) система груписања на основу аустралијског и даља продаја тог система. Споразумом остављена могућност проширења пра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Шта су ДС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228600" y="252720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ијагностички сродне груп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iagnostic Related Groups)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дстављају клинички смислен начин груписања пацијената према количини ресурса потребних за њихово лечење (одн. хоспитализацију/епизоду нег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Зашто аустралијски систем ДСГ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нализа урађена у пројекту ”Развој здравства Србије” пре пилотир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илотирање у оквиру пројекта РЗС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лични резулт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веден у земљама у окружењу (СЛ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Р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К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и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У, БГ...) – могућност за упоређивање, унапређивањ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мплементација у Србиј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Аналитички алат, извештавање, тек на крају финансир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ористити постојећи систем (нпр. електронска факту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остепено увођење током неколико годи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табилност система и уста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зградња капацит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еопходне предрадње (нпр. студија цена и трошк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време установама да се прилаг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Наредни кор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Како систем извештавања сад функциониш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ифрарник дијагноз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КБ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1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ифрарник процедура/услуг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“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лава књиг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електронска факту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Наредни корак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r-CS" sz="2500" spc="-1" strike="noStrike">
                <a:solidFill>
                  <a:srgbClr val="000000"/>
                </a:solidFill>
                <a:latin typeface="Arial"/>
              </a:rPr>
              <a:t>увођење извештавања комплементарног са системом ДСГ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тј. добијање података о хоспитализацијама из установа који се могу подвргнути логици груписања у ДСГ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sr-CS" sz="2500" spc="-1" strike="noStrike">
                <a:solidFill>
                  <a:srgbClr val="000000"/>
                </a:solidFill>
                <a:latin typeface="Arial"/>
              </a:rPr>
              <a:t>Ово предвиђа потпуну буџетску неутралност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јер се тиче само промена у извештавањ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Шта је потребн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Измена номенклатуре услуга (увођење ACHI) и све што прати ту проме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рилагођавање електронске фактуре (у циљу груписањ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офтвер за групис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000000"/>
                </a:solidFill>
                <a:latin typeface="Arial"/>
              </a:rPr>
              <a:t>Подршка установама приликом увођења тих про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000000"/>
                </a:solidFill>
                <a:latin typeface="Arial"/>
              </a:rPr>
              <a:t>Сарадња и подршка свих чинилаца у систему и изградња капаците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змена номенклатуре услу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бављена провера превода и свеобухватност процедура (услуга) – експерти КЦС, УДК, ИОР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арадња са РФЗ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sr-CS" sz="3000" spc="-1" strike="noStrike">
                <a:solidFill>
                  <a:srgbClr val="000000"/>
                </a:solidFill>
                <a:latin typeface="Arial"/>
              </a:rPr>
              <a:t>Номенклатура здравствених услуга на секундарном и терцијарном нивоу здравствене заштите”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– правилни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е садржи услуге из појединих обла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лектронска фа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ериод – целокупна хоспитал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атеће дијагнозе (коморбидитети и компликациј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КБ-10 на четири кодна места (МКБ-10-АМ касниј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теграција логичких контрол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офтвер за груписа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8288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бавка софтвера за груписање са временски ограниченом лиценц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ХВАЛА НА ПАЖЊ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елови ДСГ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ласификација процедура (номенклатура услуг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ласификација дијагн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авила кодирања/шифрир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огика груписања (софтве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СГ гру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За шта се ДСГ корист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228600" y="1219320"/>
            <a:ext cx="86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ристе се као начин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нализе 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звештавањ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и као начин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лаћањ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по учинку. Под учинком се подразумева целокупна епизода лечења болести или обраде здравственог стања (од уласка у болницу до изласка из њ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762120" y="3462480"/>
            <a:ext cx="7772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 начин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звештавањ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се ДСГ систем (у целини или његови елементи) може користити за највећи део болничких ак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 начин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лаћањ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се ДСГ систем у целини користи за акутне болничке пацијенте. Не користи се самостално (или се ређе користи) за плаћање услуга у амбуланти и хитној служби и дела услуга у области психијатрије и рехабилитације (дуготрајне хоспитализациј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звештавање у складу са ДС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Arial"/>
              </a:rPr>
              <a:t>Пацијент у болници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 пријема до отпуста из устан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дац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енерал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рађене процед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ђене и потврђене дијагноз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новни узрок хоспитализа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морбидитети и комплика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Arial"/>
              </a:rPr>
              <a:t>Након отпуста (завршетак епизоде неге) се подаци подвргавају логици груписања (убацују се у групер софтвер) која сврстава епизоду неге у одговарајућу дијагностички сродну груп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лаћање по ДС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Цена сваке дијагностички сродне групе је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унапред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одређ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станови се плаћа цена те конкретне дијагностички сродне групе, а не стварни трошкови поменуте епизоде неге који могу бити већи или мањи од те ц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7239240" cy="129528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Зашто уводимо дијагностички сродне груп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већање броја и квалитета услуга које се пружају пацијент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оља алокација средстава унутар здравственог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већање транспарентности рада болница, али и унапређење односа уговарач (РФЗО) – пружалац (установ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Шта је урађено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нализа постојећег система плаћања болниц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нализа различитих система плаћања болница у свету са опцијама за Србију – препоручен ДС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Евалуација различитих ДСГ систем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устралијски ДСГ систем (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DRG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илотирање система у 6 болница – само извештавање у складу са ДС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обри резултати – одобрење за преговоре о набавци лиценце за аустралијски ДСГ систе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DRG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Лиценца обезбеђена у фебруару 2011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06:58:18Z</dcterms:created>
  <dc:creator>Dragana</dc:creator>
  <dc:description/>
  <dc:language>en-US</dc:language>
  <cp:lastModifiedBy>Predrag Djukic</cp:lastModifiedBy>
  <dcterms:modified xsi:type="dcterms:W3CDTF">2011-12-05T06:37:31Z</dcterms:modified>
  <cp:revision>135</cp:revision>
  <dc:subject/>
  <dc:title>Наслов</dc:title>
</cp:coreProperties>
</file>