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177-FC3B-4F92-ABEA-286FE0A7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533-AC5B-47B8-91F7-0C1B3BF6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7F9F-6B0C-4908-85CA-92BF9496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CFCD-B0BE-4DA7-922D-35F315B5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3AB-254D-46BA-9E69-67385DA0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F91-DF55-4C81-AD64-6E7F1BF0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839-F49F-414E-AB6B-B79DEA87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4C0-C515-44CE-9589-3EB8B30D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511-9536-42BD-B7EE-E5D5AC28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FCA-6AF3-488D-8F16-FD834D0E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ACF7-3110-496A-A7DE-CD5DD985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66F0-1DDE-4FCC-AEC8-1C1B21B4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DBC5-E818-44A8-AAC6-8A8013115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Calibri"/>
                <a:ea typeface="Calibri"/>
              </a:rPr>
              <a:t>Развој здравства Србије – додатно финансирањ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606060"/>
                </a:solidFill>
                <a:latin typeface="Calibri"/>
                <a:ea typeface="Calibri"/>
              </a:rPr>
              <a:t>ДСГ обука</a:t>
            </a:r>
            <a:r>
              <a:rPr b="1" lang="en-US" sz="1400" spc="-1" strike="noStrike">
                <a:solidFill>
                  <a:srgbClr val="606060"/>
                </a:solidFill>
                <a:latin typeface="Calibri"/>
                <a:ea typeface="Calibri"/>
              </a:rPr>
              <a:t>, </a:t>
            </a:r>
            <a:r>
              <a:rPr b="1" lang="sr-CS" sz="1400" spc="-1" strike="noStrike">
                <a:solidFill>
                  <a:srgbClr val="606060"/>
                </a:solidFill>
                <a:latin typeface="Calibri"/>
                <a:ea typeface="Calibri"/>
              </a:rPr>
              <a:t>5</a:t>
            </a:r>
            <a:r>
              <a:rPr b="1" lang="en-US" sz="1400" spc="-1" strike="noStrike">
                <a:solidFill>
                  <a:srgbClr val="606060"/>
                </a:solidFill>
                <a:latin typeface="Calibri"/>
                <a:ea typeface="Calibri"/>
              </a:rPr>
              <a:t>.</a:t>
            </a:r>
            <a:r>
              <a:rPr b="1" lang="sr-CS" sz="1400" spc="-1" strike="noStrike">
                <a:solidFill>
                  <a:srgbClr val="606060"/>
                </a:solidFill>
                <a:latin typeface="Calibri"/>
                <a:ea typeface="Calibri"/>
              </a:rPr>
              <a:t>12</a:t>
            </a:r>
            <a:r>
              <a:rPr b="1" lang="en-US" sz="1400" spc="-1" strike="noStrike">
                <a:solidFill>
                  <a:srgbClr val="606060"/>
                </a:solidFill>
                <a:latin typeface="Calibri"/>
                <a:ea typeface="Calibri"/>
              </a:rPr>
              <a:t>.2011</a:t>
            </a:r>
            <a:r>
              <a:rPr b="1" lang="sr-CS" sz="1400" spc="-1" strike="noStrike">
                <a:solidFill>
                  <a:srgbClr val="606060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Arial"/>
              </a:rPr>
              <a:t>ДСГ у Србиј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р Предраг Ђук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валуирани различити ДСГ систе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82880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1 ДСГ сист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(3 америчка, аустралијски, аустријски, канадски, нордијски, немачки, француски, енглески, мађарс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и аспек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дминистратив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финансиј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кр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устралијски и нордиј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лука о коначној препоруци ДСГ система за пилотирање у Србији је донета у сарадњи са Комором здравствених установа Србије, која је евалуирала клинички асп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устралијски ДСГ систем (AR-DR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лови AR-DRG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асификација процедура (номенклатура услуга) – ACH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асификација дијагноза (МКБ-10) – ICD-10-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вила кодирања/шифрирања – A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гика групис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СГ гру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илотир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граничена лиценца – проба ДСГ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едени системи кодирања (шифрирања) дијагноза и процедур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пликације које помажу при кодирању и слању пода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КБ-10 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КБ-10-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илотир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ведено у 6 устано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н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аљево, Краљево, Ужице, Сремска Митровица, Лескова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агујева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дукација и обу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325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кара и медицинског особљ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вештав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енералије, дијагнозе, процедуре, исход, број дана, број сати на мех. вентил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имулација за сваки коректан извешта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илотир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тинуирана подрш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ефон, ел. пошта, претраживач дијагноза и процед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лнице саме организовале извештав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а контакт ос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ка по одељењ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лнице без БИС – формулари попуњавани на папиру, па на нивоу болнице уношени у софтверску апликацију на једној радној стан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01680" y="1600200"/>
            <a:ext cx="85183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купљено укупно 18.545 отпу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39640" y="2421000"/>
          <a:ext cx="8231400" cy="3651120"/>
        </p:xfrm>
        <a:graphic>
          <a:graphicData uri="http://schemas.openxmlformats.org/drawingml/2006/table">
            <a:tbl>
              <a:tblPr/>
              <a:tblGrid>
                <a:gridCol w="3527640"/>
                <a:gridCol w="2376360"/>
                <a:gridCol w="232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ј отпу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гујева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ље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кова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мска Митров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жиц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ље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нат пријављених отпуста у односу на планира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агујева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76.6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аљев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0.8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скова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85.2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мска Митрови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88.3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жи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95.6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љев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75.9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01680" y="1341360"/>
            <a:ext cx="84470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96.6%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пеш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83.5%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 првог покуша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цена квалитета – историје болести и извешта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95280" y="2819520"/>
          <a:ext cx="8158320" cy="2946240"/>
        </p:xfrm>
        <a:graphic>
          <a:graphicData uri="http://schemas.openxmlformats.org/drawingml/2006/table">
            <a:tbl>
              <a:tblPr/>
              <a:tblGrid>
                <a:gridCol w="2041560"/>
                <a:gridCol w="2038320"/>
                <a:gridCol w="2040120"/>
                <a:gridCol w="2038320"/>
              </a:tblGrid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.узр.хосп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теће дг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дуре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 Митров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жи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ље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кова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гујева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ље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01680" y="1341360"/>
            <a:ext cx="84470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528 различитих ДСГ у 6 бол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80% отпуста класификовано у 133 различита ДС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01680" y="1600200"/>
            <a:ext cx="8302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чешћи ДС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2362320"/>
          <a:ext cx="8157960" cy="3462120"/>
        </p:xfrm>
        <a:graphic>
          <a:graphicData uri="http://schemas.openxmlformats.org/drawingml/2006/table">
            <a:tbl>
              <a:tblPr/>
              <a:tblGrid>
                <a:gridCol w="982440"/>
                <a:gridCol w="3970440"/>
                <a:gridCol w="1198440"/>
                <a:gridCol w="984240"/>
                <a:gridCol w="1022400"/>
              </a:tblGrid>
              <a:tr h="776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DRG n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DRG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Frequ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Perc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Weigh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R63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CHEMOTHERA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7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4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P67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NEO,ADMWT &gt;2499G-SIG OR PR-PR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0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B40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PLASMAPHERESIS + NEUROLGCL D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0.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F67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HYPERTENSION - 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0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L60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RENAL FAILURE -CS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4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0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362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G =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С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G = Diagnostic Related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С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јагностички сродне гру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01680" y="1816200"/>
            <a:ext cx="823104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СГ према просечној дужини леж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24000" y="2895480"/>
          <a:ext cx="8518320" cy="3006720"/>
        </p:xfrm>
        <a:graphic>
          <a:graphicData uri="http://schemas.openxmlformats.org/drawingml/2006/table">
            <a:tbl>
              <a:tblPr/>
              <a:tblGrid>
                <a:gridCol w="1215720"/>
                <a:gridCol w="4872240"/>
                <a:gridCol w="1214280"/>
                <a:gridCol w="1216080"/>
              </a:tblGrid>
              <a:tr h="7318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D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DRG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Australian DRG Weigh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I64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Osteomyelitis +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8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2.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P65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Neo,Admwt 1500-1999g-Sg Op+Mj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48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H6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Cirrhosis &amp; Alc Hepatitis +C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46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7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E7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Whoopng Cgh &amp;Acte Brnchio+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7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1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L0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Kdny,Urt&amp;Mjr Bldr Pr Npsm+Cs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3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.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огућност упоређивања болниц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benchmar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осечна дужина лежа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692360" y="2590920"/>
            <a:ext cx="57592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сечна дужина лежања по дијагно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65534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312560"/>
            <a:ext cx="854064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сечна дужина лежања пацијената којима је извршена процед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332000" y="2487600"/>
            <a:ext cx="64087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мента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 болнице успеле да организују извештавање упркос времену пилотирања – мај, јун, јул (одмори, извештаји) – улога мотив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валуација процеса пилотир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25 лека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64% мисли да је овај модел лакши за извешта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45% мисли да би овакав вид извештавања могао да обједини све захтеве (МЗ, РФЗО, ИЗЈЗ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92% задовољно подршком и материјалом и сматра да је она неопход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мента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60560"/>
            <a:ext cx="854064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напређено шифрирање дијагноза на четири кодна места и бележење пратећих дијагн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орбидитет и комплик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бољшано вођење медицинске документ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опходна провера пре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Главни закључци пилотир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722600"/>
            <a:ext cx="854064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илот је показао да је извештавање у складу са аустралијским ДСГ системом апсолутно изводљиво и применљиво у Срб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аци неопходни за груписање у ДСГ се већ рутински прикупљају у болницама. Потребна је нова форма извешта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је неопходна пуна имплементација БИС да би се увело извештавање у складу са ДС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Главни закључци пилотир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ма обука неће довести до успешне имплементације систе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опходна је континуирана подр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лико интересовање запослених да учествују у пројекту показује спремност за пром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57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обрење за преговоре са владом Аустралије везане за набавку лиценце за аустралијски систем ДС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иценца обезбеђена у фебруар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ице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тписана у фебруару 2011. годи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поразум са Аустралијском владом о коришћењу систе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R-DRG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ерз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R DRG 6.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ограничен временски пери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а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мплемент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кључујући право на мање измене ради прилагођавањ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вод, коришће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граничењ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мена логике груписања, развој новог (српског) система груписања на основу аустралијског и даља продаја тог система. Споразумом остављена могућност проширења пра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Шта су ДС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228600" y="252720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јагностички сродне груп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iagnostic Related Groups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стављају клинички смислен начин груписања пацијената према количини ресурса потребних за њихово лечење (одн. хоспитализацију/епизоду нег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Зашто аустралијски систем ДСГ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нализа урађена у пројекту ”Развој здравства Србије” пре пилотир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илотирање у оквиру пројекта РЗС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лични резулт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веден у земљама у окружењу (СЛ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У, БГ...) – могућност за упоређивање, унапређи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мплементација у Србиј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налитички алат, извештавање, тек на крају финанс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ристити постојећи систем (нпр. електронска факту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степено увођење током неколико годи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табилност система и уста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градња капац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опходне предрадње (нпр. студија цена и трошк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реме установама да се прилаг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аредни ко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ако систем извештавања сад функциониш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ифрарник дијагноз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К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ифрарник процедура/услуг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“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лава књиг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лектронска факт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аредни корак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</a:rPr>
              <a:t>увођење извештавања комплементарног са системом ДСГ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ј. добијање података о хоспитализацијама из установа који се могу подвргнути логици груписања у ДСГ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sr-CS" sz="2500" spc="-1" strike="noStrike">
                <a:solidFill>
                  <a:srgbClr val="000000"/>
                </a:solidFill>
                <a:latin typeface="Arial"/>
              </a:rPr>
              <a:t>Ово предвиђа потпуну буџетску неутралнос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јер се тиче само промена у извештавањ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Шта је потребн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змена номенклатуре услуга (увођење ACHI) и све што прати ту проме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илагођавање електронске фактуре (у циљу груписањ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офтвер за групис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Подршка установама приликом увођења тих про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Сарадња и подршка свих чинилаца у систему и изградња капацит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змена номенклатуре услу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ављена провера превода и свеобухватност процедура (услуга) – експерти КЦС, УДК, ИОР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арадња са РФЗ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sr-CS" sz="3000" spc="-1" strike="noStrike">
                <a:solidFill>
                  <a:srgbClr val="000000"/>
                </a:solidFill>
                <a:latin typeface="Arial"/>
              </a:rPr>
              <a:t>Номенклатура здравствених услуга на секундарном и терцијарном нивоу здравствене заштите”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– правилн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е садржи услуге из појединих обла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лектронска фа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ериод – целокупна хоспита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теће дијагнозе (коморбидитети и компликациј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КБ-10 на четири кодна места (МКБ-10-АМ касниј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теграција логичких контро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офтвер за групис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8288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бавка софтвера за груписање са временски ограниченом лицен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ВАЛА НА ПАЖЊ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лови ДСГ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асификација процедура (номенклатура услуг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асификација дијаг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вила кодирања/шифрир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гика груписања (софтве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СГ гру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 шта се ДСГ корист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228600" y="121932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ристе се као начин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нализе 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звештавањ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као начин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лаћањ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о учинку. Под учинком се подразумева целокупна епизода лечења болести или обраде здравственог стања (од уласка у болницу до изласка из њ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762120" y="3462480"/>
            <a:ext cx="7772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 начин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звештава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се ДСГ систем (у целини или његови елементи) може користити за највећи део болничких а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 начин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лаћа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се ДСГ систем у целини користи за акутне болничке пацијенте. Не користи се самостално (или се ређе користи) за плаћање услуга у амбуланти и хитној служби и дела услуга у области психијатрије и рехабилитације (дуготрајне хоспитализа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звештавање у складу са ДС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Пацијент у болници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 пријема до отпуста из устан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а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енерал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рађене процед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ђене и потврђене дијагно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новни узрок хоспитализ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орбидитети и комплик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Након отпуста (завршетак епизоде неге) се подаци подвргавају логици груписања (убацују се у групер софтвер) која сврстава епизоду неге у одговарајућу дијагностички сродну груп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лаћање по ДС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ена сваке дијагностички сродне групе ј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напред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одређ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танови се плаћа цена те конкретне дијагностички сродне групе, а не стварни трошкови поменуте епизоде неге који могу бити већи или мањи од те ц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7239240" cy="12952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Зашто уводимо дијагностички сродне груп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већање броја и квалитета услуга које се пружају пацијент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ља алокација средстава унутар здравственог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већање транспарентности рада болница, али и унапређење односа уговарач (РФЗО) – пружалац (установ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Шта је урађено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нализа постојећег система плаћања болни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нализа различитих система плаћања болница у свету са опцијама за Србију – препоручен ДС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Евалуација различитих ДСГ систем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устралијски ДСГ систем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DRG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илотирање система у 6 болница – само извештавање у складу са ДС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обри резултати – одобрење за преговоре о набавци лиценце за аустралијски ДСГ систе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DRG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Лиценца обезбеђена у фебруару 2011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06:58:18Z</dcterms:created>
  <dc:creator>Dragana</dc:creator>
  <dc:description/>
  <dc:language>en-US</dc:language>
  <cp:lastModifiedBy>Predrag Djukic</cp:lastModifiedBy>
  <dcterms:modified xsi:type="dcterms:W3CDTF">2011-12-05T06:37:31Z</dcterms:modified>
  <cp:revision>135</cp:revision>
  <dc:subject/>
  <dc:title>Наслов</dc:title>
</cp:coreProperties>
</file>