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7AE1-43ED-46A4-9DD8-C90314BB62E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F8BB-08B0-45AE-AD0B-BAE8A66B2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A1FA-F409-4F6D-924E-4164B9DD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BE31-6C3D-41AE-80F1-1191A0646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137-010B-4DC5-AB49-27D321F6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F60-9406-46BE-A65A-C0177F8B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468-9531-4079-9BD1-0CB92590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1CD-EECE-4855-B0D4-0DA9AAD0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C21-5466-4AA3-A0F8-F254E5CD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09E-086E-4CBF-AD5A-723F45D2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C9D-1B4C-4DF6-A596-72FF23B4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F90-B912-44E4-8109-73206009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3D3-9A63-4A25-B519-4AEB68A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9DC-93AD-4C6A-A072-FAEA55BA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E8B-8061-4AE7-8A01-19289908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1C4-E43C-4DD3-B2E8-9FA299DB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A66D-EF32-4051-BEAE-C5F72D13F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mailto:Terri.jackson@ualberta.ca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health.gov.au/internet/main/publishing.nsf/Content/0FABA9D6DB24D7E8CA257712000C5D3C/$File/HospitalPatientCostingStandards_v1.1.pdf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HOSPITAL%20EXPENDITURES%20AND%20IFRACS.xlsx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JUL%20AUG%20DRG%20DATA%20MODEL%20IT2.xlsx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15 - 1500 5Dec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Diagnosis related groups and funding of an episode of c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ing demand for hospital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is very elastic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chael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ight am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more better? Prevention invest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rgets, incentives to substitution or b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gaging communit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ral gatekeeper – copayments (equ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dgetary restraint a weak sig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setting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projection or current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last year’s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last year’s act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 for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 for efficiency divi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d service implementation – geographical re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ervices and technology allow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novation, research and development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be covered by DRG weights based on previous year’s cos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covered by funding supplementation – then becomes absorbed in DRG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volume high cost exceptional services OK for DRG funding if accurately co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high fixed costs relatively low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sets required for DRG funding of hospital service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t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rules– counting rules– admiss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previous years’ – quarter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chart of account - for patient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disaggregation standard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nd planning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3349800" y="428760"/>
            <a:ext cx="3771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Hospital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Hospital Financi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187280" y="1581120"/>
            <a:ext cx="352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Minimum Basic Data Set-DRG Data Entry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Clinical Data, D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Resource Consump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736520" y="3000240"/>
            <a:ext cx="1650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cc3399"/>
                </a:solidFill>
                <a:latin typeface="Verdana"/>
              </a:rPr>
              <a:t>analysis tool</a:t>
            </a: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572160" y="4500720"/>
            <a:ext cx="2127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ombo </a:t>
            </a:r>
            <a:r>
              <a:rPr b="0" lang="tr-TR" sz="1800" spc="-1" strike="noStrike">
                <a:solidFill>
                  <a:srgbClr val="000099"/>
                </a:solidFill>
                <a:latin typeface="Verdan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34800" y="5357880"/>
            <a:ext cx="3094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Coding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572000" y="4481640"/>
            <a:ext cx="192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PICQ </a:t>
            </a:r>
            <a:r>
              <a:rPr b="0" lang="tr-TR" sz="1800" spc="-1" strike="noStrike">
                <a:solidFill>
                  <a:srgbClr val="000099"/>
                </a:solidFill>
                <a:latin typeface="Verdan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877080" y="5286240"/>
            <a:ext cx="17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Cost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357960" y="1508040"/>
            <a:ext cx="2374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Cost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-Allocatio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7798680" y="3579840"/>
            <a:ext cx="1084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Verdana"/>
              </a:rPr>
              <a:t>(cos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336720" y="3579840"/>
            <a:ext cx="1442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0000"/>
                </a:solidFill>
                <a:latin typeface="Verdana"/>
              </a:rPr>
              <a:t>volumefil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858560" y="3786120"/>
            <a:ext cx="98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AU" sz="1800" spc="-1" strike="noStrike">
                <a:solidFill>
                  <a:srgbClr val="ff0000"/>
                </a:solidFill>
                <a:latin typeface="Verdana"/>
              </a:rPr>
              <a:t>CASES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643200" y="5410080"/>
            <a:ext cx="30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Data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15"/>
          <p:cNvCxnSpPr>
            <a:stCxn id="85" idx="2"/>
            <a:endCxn id="86" idx="0"/>
          </p:cNvCxnSpPr>
          <p:nvPr/>
        </p:nvCxnSpPr>
        <p:spPr>
          <a:xfrm rot="5400000">
            <a:off x="3872520" y="218880"/>
            <a:ext cx="442080" cy="228348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16"/>
          <p:cNvCxnSpPr>
            <a:stCxn id="85" idx="2"/>
            <a:endCxn id="92" idx="0"/>
          </p:cNvCxnSpPr>
          <p:nvPr/>
        </p:nvCxnSpPr>
        <p:spPr>
          <a:xfrm flipH="1" rot="16200000">
            <a:off x="6206040" y="168840"/>
            <a:ext cx="369000" cy="23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17"/>
          <p:cNvCxnSpPr>
            <a:stCxn id="86" idx="2"/>
          </p:cNvCxnSpPr>
          <p:nvPr/>
        </p:nvCxnSpPr>
        <p:spPr>
          <a:xfrm flipH="1" rot="16200000">
            <a:off x="4062240" y="1670760"/>
            <a:ext cx="240480" cy="2461320"/>
          </a:xfrm>
          <a:prstGeom prst="bentConnector3">
            <a:avLst>
              <a:gd name="adj1" fmla="val 496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18"/>
          <p:cNvCxnSpPr>
            <a:stCxn id="94" idx="2"/>
            <a:endCxn id="88" idx="0"/>
          </p:cNvCxnSpPr>
          <p:nvPr/>
        </p:nvCxnSpPr>
        <p:spPr>
          <a:xfrm flipH="1" rot="16200000">
            <a:off x="7073640" y="3939120"/>
            <a:ext cx="545400" cy="578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19"/>
          <p:cNvCxnSpPr>
            <a:stCxn id="93" idx="2"/>
            <a:endCxn id="88" idx="0"/>
          </p:cNvCxnSpPr>
          <p:nvPr/>
        </p:nvCxnSpPr>
        <p:spPr>
          <a:xfrm rot="5400000">
            <a:off x="7715880" y="3875760"/>
            <a:ext cx="545400" cy="705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20"/>
          <p:cNvCxnSpPr>
            <a:endCxn id="94" idx="0"/>
          </p:cNvCxnSpPr>
          <p:nvPr/>
        </p:nvCxnSpPr>
        <p:spPr>
          <a:xfrm>
            <a:off x="6183360" y="3209760"/>
            <a:ext cx="875520" cy="370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Text Box 21"/>
          <p:cNvSpPr/>
          <p:nvPr/>
        </p:nvSpPr>
        <p:spPr>
          <a:xfrm>
            <a:off x="6523920" y="2589120"/>
            <a:ext cx="220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cc3399"/>
                </a:solidFill>
                <a:latin typeface="Verdana"/>
              </a:rPr>
              <a:t>preparecostsheet</a:t>
            </a: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AutoShape 22"/>
          <p:cNvCxnSpPr>
            <a:stCxn id="92" idx="2"/>
            <a:endCxn id="103" idx="0"/>
          </p:cNvCxnSpPr>
          <p:nvPr/>
        </p:nvCxnSpPr>
        <p:spPr>
          <a:xfrm flipH="1" rot="16200000">
            <a:off x="7371360" y="2332080"/>
            <a:ext cx="430920" cy="8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23"/>
          <p:cNvCxnSpPr>
            <a:stCxn id="103" idx="2"/>
            <a:endCxn id="93" idx="0"/>
          </p:cNvCxnSpPr>
          <p:nvPr/>
        </p:nvCxnSpPr>
        <p:spPr>
          <a:xfrm flipH="1" rot="16200000">
            <a:off x="7677000" y="2915640"/>
            <a:ext cx="615240" cy="71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24"/>
          <p:cNvSpPr/>
          <p:nvPr/>
        </p:nvSpPr>
        <p:spPr>
          <a:xfrm>
            <a:off x="1071720" y="4068720"/>
            <a:ext cx="3355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Diagnosis and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rocedures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25"/>
          <p:cNvCxnSpPr>
            <a:stCxn id="86" idx="1"/>
          </p:cNvCxnSpPr>
          <p:nvPr/>
        </p:nvCxnSpPr>
        <p:spPr>
          <a:xfrm flipV="1" rot="10800000">
            <a:off x="999360" y="2180880"/>
            <a:ext cx="187920" cy="3177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26"/>
          <p:cNvCxnSpPr>
            <a:stCxn id="86" idx="2"/>
          </p:cNvCxnSpPr>
          <p:nvPr/>
        </p:nvCxnSpPr>
        <p:spPr>
          <a:xfrm rot="5400000">
            <a:off x="2295000" y="3414600"/>
            <a:ext cx="12913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27"/>
          <p:cNvCxnSpPr/>
          <p:nvPr/>
        </p:nvCxnSpPr>
        <p:spPr>
          <a:xfrm flipH="1" rot="16200000">
            <a:off x="5164200" y="3550320"/>
            <a:ext cx="405360" cy="19800"/>
          </a:xfrm>
          <a:prstGeom prst="bentConnector3">
            <a:avLst>
              <a:gd name="adj1" fmla="val 499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28"/>
          <p:cNvCxnSpPr>
            <a:stCxn id="95" idx="2"/>
            <a:endCxn id="90" idx="0"/>
          </p:cNvCxnSpPr>
          <p:nvPr/>
        </p:nvCxnSpPr>
        <p:spPr>
          <a:xfrm flipH="1" rot="16200000">
            <a:off x="5281560" y="4225680"/>
            <a:ext cx="326160" cy="186480"/>
          </a:xfrm>
          <a:prstGeom prst="bentConnector3">
            <a:avLst>
              <a:gd name="adj1" fmla="val 499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29"/>
          <p:cNvCxnSpPr>
            <a:stCxn id="90" idx="2"/>
            <a:endCxn id="96" idx="0"/>
          </p:cNvCxnSpPr>
          <p:nvPr/>
        </p:nvCxnSpPr>
        <p:spPr>
          <a:xfrm rot="5400000">
            <a:off x="5065920" y="4939200"/>
            <a:ext cx="559080" cy="383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30"/>
          <p:cNvCxnSpPr>
            <a:stCxn id="88" idx="2"/>
            <a:endCxn id="91" idx="0"/>
          </p:cNvCxnSpPr>
          <p:nvPr/>
        </p:nvCxnSpPr>
        <p:spPr>
          <a:xfrm flipH="1" rot="16200000">
            <a:off x="7482600" y="5028840"/>
            <a:ext cx="410040" cy="105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ING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s for rational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mary mechanism to assess innovation and invest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reports may incl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Comple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various qualit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come –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follow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n total Weighted Episode (WEs) of all hospit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performance in total WEs against target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 by Major Diagnostic Categories (MDC) for Medical Diagnosis Related Group (DRGs)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 by MDC for Procedural DRG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10 increment DRG families by hosp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10 decrement DRG familie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mix Index of Medical and Procedural DRGs of all hospi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mix Index (CMI) by MDC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WEs per patient by MDC in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umber of episodes per patient by MDC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mix – “1 Year 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same day episodes by MDC of Medical and Procedural DRGs by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ame day episodes of Ambulatory Medical DR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of episodes admitted via A&amp;E Department by MDC by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22160" y="23619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22160" y="4038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ff8d3e"/>
                </a:solidFill>
                <a:latin typeface="Verdana"/>
              </a:rPr>
              <a:t>HOSPITAL BUDGET MODELLING IN A DRG ENVIRONMEN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cal Efficienc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Length of Stay (ALOS) of Medical &amp; Procedural DRGs of all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ALOS by MDC by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er weighted DRG by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ding Complet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for Medical and Procedural DRGs by severity level in all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with Major Co-morbidities and Complication (MCC) by MDC for Medical DRG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with MCC by MDC for Procedural DRGs in all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with MCC by MDC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/ CMI by discharged specialty: 4-year trend analysi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RGs – QUALITY AND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92240" y="1467000"/>
            <a:ext cx="8791560" cy="4914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2031840" y="645336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rri.jackson@ualberta.ca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333399"/>
                </a:solidFill>
                <a:latin typeface="Arial"/>
              </a:rPr>
              <a:t>THE FIRST IDEA OF EFFICIENT PR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Data and information for fair and accurate costing and pricing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What is efficient in terms of a reasonable price to pa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what is the budget? – realistic quali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ccuracy in costing – capital costs – sector differences – lumpy costs (eg redundancie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What about regional cost/salaries/inputs price varia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ifferences in packaging – eg include worku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cale of oper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quivalent developing models of c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333399"/>
                </a:solidFill>
                <a:latin typeface="Arial"/>
              </a:rPr>
              <a:t>THE SECOND IDEA OF EFFICIENT 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120" y="1557360"/>
            <a:ext cx="81536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he Payment System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– what are you actually paying f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684360" y="2286000"/>
            <a:ext cx="8078760" cy="3978720"/>
            <a:chOff x="684360" y="2286000"/>
            <a:chExt cx="8078760" cy="3978720"/>
          </a:xfrm>
        </p:grpSpPr>
        <p:sp>
          <p:nvSpPr>
            <p:cNvPr id="135" name="Oval 6"/>
            <p:cNvSpPr/>
            <p:nvPr/>
          </p:nvSpPr>
          <p:spPr>
            <a:xfrm>
              <a:off x="684360" y="2651760"/>
              <a:ext cx="4296960" cy="1951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NHIF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MoH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INSUR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PATI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3863520" y="2529360"/>
              <a:ext cx="4039200" cy="219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HEALTH SYSTE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OPERATORS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REGIONS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HMO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769320" y="4176720"/>
              <a:ext cx="4211640" cy="176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EMPLOYED PRACTITION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Drug, MD SUPPLI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SUPPORT SERVIC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4121280" y="4176720"/>
              <a:ext cx="3868920" cy="1645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HOSPITALS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HEALTH CLINCS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PRACTITION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6"/>
            <p:cNvSpPr/>
            <p:nvPr/>
          </p:nvSpPr>
          <p:spPr>
            <a:xfrm>
              <a:off x="2918160" y="2286000"/>
              <a:ext cx="3093840" cy="853920"/>
            </a:xfrm>
            <a:custGeom>
              <a:avLst/>
              <a:gdLst>
                <a:gd name="textAreaLeft" fmla="*/ 452880 w 3093840"/>
                <a:gd name="textAreaRight" fmla="*/ 2640960 w 3093840"/>
                <a:gd name="textAreaTop" fmla="*/ 124920 h 853920"/>
                <a:gd name="textAreaBottom" fmla="*/ 729000 h 8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7"/>
            <p:cNvSpPr/>
            <p:nvPr/>
          </p:nvSpPr>
          <p:spPr>
            <a:xfrm>
              <a:off x="7732440" y="3322800"/>
              <a:ext cx="1030680" cy="1951200"/>
            </a:xfrm>
            <a:custGeom>
              <a:avLst/>
              <a:gdLst>
                <a:gd name="textAreaLeft" fmla="*/ 137880 w 1030680"/>
                <a:gd name="textAreaRight" fmla="*/ 892800 w 1030680"/>
                <a:gd name="textAreaTop" fmla="*/ 341280 h 1951200"/>
                <a:gd name="textAreaBottom" fmla="*/ 1414800 h 195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0"/>
            <p:cNvSpPr/>
            <p:nvPr/>
          </p:nvSpPr>
          <p:spPr>
            <a:xfrm rot="10669200">
              <a:off x="2917800" y="5335560"/>
              <a:ext cx="3954240" cy="853920"/>
            </a:xfrm>
            <a:custGeom>
              <a:avLst/>
              <a:gdLst>
                <a:gd name="textAreaLeft" fmla="*/ 578880 w 3954240"/>
                <a:gd name="textAreaRight" fmla="*/ 3375360 w 3954240"/>
                <a:gd name="textAreaTop" fmla="*/ 124920 h 853920"/>
                <a:gd name="textAreaBottom" fmla="*/ 729000 h 8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605760" y="3993840"/>
              <a:ext cx="1203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3"/>
            <p:cNvSpPr/>
            <p:nvPr/>
          </p:nvSpPr>
          <p:spPr>
            <a:xfrm>
              <a:off x="3605760" y="3993840"/>
              <a:ext cx="1460520" cy="731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>
              <a:off x="3605760" y="3993840"/>
              <a:ext cx="0" cy="14025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ng activity to DR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G grouper software online in PAS systems in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feedback on DRG effect of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finder functions for D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ch or individual record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s of activity by D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G pattern reporting and feedback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cking expenditure to DRGs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ject 1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90000" cy="4647960"/>
          </a:xfrm>
          <a:prstGeom prst="rect">
            <a:avLst/>
          </a:prstGeom>
          <a:ln w="0">
            <a:noFill/>
          </a:ln>
        </p:spPr>
      </p:pic>
      <p:sp>
        <p:nvSpPr>
          <p:cNvPr id="150" name="Title 2"/>
          <p:cNvSpPr/>
          <p:nvPr/>
        </p:nvSpPr>
        <p:spPr>
          <a:xfrm>
            <a:off x="1371600" y="2746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ndamental of c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per case – botto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977760" y="1219320"/>
            <a:ext cx="717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G based – top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85800" y="1511280"/>
            <a:ext cx="76834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5060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19840" y="6100920"/>
            <a:ext cx="29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health.vic.gov.au/pfg/pfg2005/pfg0506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5778360" y="189000"/>
            <a:ext cx="2722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 National hospital cost dat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1600200"/>
          <a:ext cx="7715520" cy="4525920"/>
        </p:xfrm>
        <a:graphic>
          <a:graphicData uri="http://schemas.openxmlformats.org/drawingml/2006/table">
            <a:tbl>
              <a:tblPr/>
              <a:tblGrid>
                <a:gridCol w="271440"/>
                <a:gridCol w="1629000"/>
                <a:gridCol w="368280"/>
                <a:gridCol w="465120"/>
                <a:gridCol w="465120"/>
                <a:gridCol w="523800"/>
                <a:gridCol w="319320"/>
                <a:gridCol w="426960"/>
                <a:gridCol w="368280"/>
                <a:gridCol w="396720"/>
                <a:gridCol w="349200"/>
                <a:gridCol w="368280"/>
                <a:gridCol w="406440"/>
                <a:gridCol w="349200"/>
                <a:gridCol w="406440"/>
                <a:gridCol w="320760"/>
                <a:gridCol w="281160"/>
              </a:tblGrid>
              <a:tr h="28908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G Descript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ost per DRG ($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omponent Cost per DRG ($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Sep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Day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ys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Medic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Nurs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linical Salari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olog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01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iln/Cranio Mult Sig Traum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4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9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7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69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ne Dis&amp;Sp Arth A&gt;74/+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4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63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Disorders Of The Eye 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68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urg Spinal Disorders 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4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01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 For Penetratng Eye Inju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21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 Circ Sys O.R. Pr 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70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opng Cgh &amp;Acte Brnchio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6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 Para/Quad+/-Or Pr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60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al Health Treat+Samedy-E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2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mb Pr+Ulcr/Cels-Ccc-Graf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66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,Admwt 2000-2499G-Sg Op-Pr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04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Pr Inj Lwr Lmb A&gt;59/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4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s Procedures + 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nia Procedures A&lt;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67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sphs,Gastr&amp;Mis Dg D A&gt;9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19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Elbow, Forearm Proc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6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gnancy Fem Reprod Sys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40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 Sys Dx+Ventilator Suppor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1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75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j Sh,Arm,Elb,Kn,Leg A&gt;64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9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ransplant+Pancreas/+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5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13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er,Tib,Fib,Ank Pr A&lt;60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5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67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nrtv Nerv Sys Dis A&gt;59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6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,Admwt &gt;2499G+Sig Or Pr-Mm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Digestive System Diag-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7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opng Cgh &amp;Acte Brnchio-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41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c Dsrd+Ami+Inva Inve Pr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5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ucoma/Cx Cataract Procs,S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8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74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traumatic Stupor &amp; Com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1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, Liver &amp;Shunt Pr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61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nate, Admission Wt &lt;750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7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3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9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62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Up -Endosc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05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r Small &amp; Large Bowel Pr -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1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, Liver &amp; Shunt Pr+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4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2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09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 Cardiothor Pr-Pmp 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06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Pr Other Injuries + 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Box 6"/>
          <p:cNvSpPr/>
          <p:nvPr/>
        </p:nvSpPr>
        <p:spPr>
          <a:xfrm>
            <a:off x="55080" y="1676520"/>
            <a:ext cx="2884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TIONAL HOSPITAL COST DATA COLLEC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ST WEIGHTS FOR AR-DRG VERSION 5.1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nd 11 (2006-07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HCDC Report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3008160" y="1523880"/>
            <a:ext cx="5678640" cy="46483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 flipV="1" rot="10800000">
            <a:off x="304920" y="2603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ealth.gov.au/internet/main/publishing.nsf/Content/0FABA9D6DB24D7E8CA257712000C5D3C/$File/HospitalPatientCostingStandards_v1.1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need clinical cos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ly value products – eg DRG’s for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weights for funding and pa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analysis in weighted activit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our hospital against others an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ly manage performance – care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chievement targets – ‘match the above average performers over the next two year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Costing Standards A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5898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0840" y="1351080"/>
          <a:ext cx="8843760" cy="4965480"/>
        </p:xfrm>
        <a:graphic>
          <a:graphicData uri="http://schemas.openxmlformats.org/drawingml/2006/table">
            <a:tbl>
              <a:tblPr/>
              <a:tblGrid>
                <a:gridCol w="892080"/>
                <a:gridCol w="1103400"/>
                <a:gridCol w="927000"/>
                <a:gridCol w="939960"/>
                <a:gridCol w="917640"/>
                <a:gridCol w="742680"/>
                <a:gridCol w="743040"/>
                <a:gridCol w="743040"/>
                <a:gridCol w="917640"/>
                <a:gridCol w="917280"/>
              </a:tblGrid>
              <a:tr h="295200">
                <a:tc gridSpan="10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ad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&amp;D including complexit Allaocati &amp;compen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luded Fixed cost (eg Suparannuation) adjust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cified grants excluding complex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us fund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 fund incl mate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iv surg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G Variable pay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,301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993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37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,45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361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,957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,935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272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615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,562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95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7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88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,37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,685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,143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843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43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,671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93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8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66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3,295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7,197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5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573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834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649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353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34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,966.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687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33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41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3,193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4,858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,25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77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72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,387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0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,554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6,677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99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24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762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9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,497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,322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91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696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1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,506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64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,836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2,24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588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674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,156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38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4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,701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,410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127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17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9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738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,333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,508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,12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,542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565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63,098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27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083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837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35,355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47,229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887"/>
          <p:cNvSpPr/>
          <p:nvPr/>
        </p:nvSpPr>
        <p:spPr>
          <a:xfrm>
            <a:off x="1371600" y="272880"/>
            <a:ext cx="731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ODELLED BUDGET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3280" y="16790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patient budget/expenditure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Total hosptial budget for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ultiplied by IF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OSPITAL EXPENDITURES AND IFRACS.xl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Inpatient budget est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The modell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Inpatient budgets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Inpatient volumes by DRG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st weights by D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Price from total inpatient budg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F COSTWEIGHTS ARE RE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Allocate modelled budget by weighted 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Adjust for redistributions above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JUL AUG DRG DATA MODEL IT2.xl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0040" y="1441440"/>
          <a:ext cx="8186760" cy="4759200"/>
        </p:xfrm>
        <a:graphic>
          <a:graphicData uri="http://schemas.openxmlformats.org/drawingml/2006/table">
            <a:tbl>
              <a:tblPr/>
              <a:tblGrid>
                <a:gridCol w="1279440"/>
                <a:gridCol w="1238400"/>
                <a:gridCol w="901800"/>
                <a:gridCol w="860400"/>
                <a:gridCol w="928440"/>
                <a:gridCol w="733680"/>
                <a:gridCol w="1236600"/>
                <a:gridCol w="1008000"/>
              </a:tblGrid>
              <a:tr h="8254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eneral Hospi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tted patient payment Feb10*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AUG10 UNWTD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ULAUG08 WTD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semix Index (C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ODELED CSMX PAY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% REDIST / ADJ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,6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4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1,295,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TIAL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,892,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6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6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,841,7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4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,736,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,738,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,366,3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0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,139,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16.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,783,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,980,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,667,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55,9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.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,122,8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,872,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0.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64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,661,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,214,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,819,3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3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,158,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29.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,115,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,219,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7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,031,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4.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,736,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,415,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14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,485,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,657,0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,213,7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7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,095,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41.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64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,990,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6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,733,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.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75,458,7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,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6,985,8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17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87,155,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7,7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7,7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87,155,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itial modelling framework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3280" y="17553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lignment of expenditure data and activity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Cleaning up data by deleting test hospitals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ggregations of clinics to best approximate a major teaching hospital for benchmarking purpo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checking estimated IFRAC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checking grouping patterns of hospit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view group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are hospital level casemix patterns with peer hospit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eck changes in casemix across time peri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GENERAL CHECKS/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3280" y="1523880"/>
            <a:ext cx="818352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CHECK FOR MISSING DATA Hosp A HosP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CHECK FOR MISSING EXPENDITUR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LLOCATE CLINICS TO HOSPITALS?? OR MODEL BUDGETS INDEPENDENTLY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CHECK Hosp X FOR OVERCOUNTING OF CASES OR UNDERESTIMATE OF CURRENT REVEN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??DUPLICA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??ADMITTED OUT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FR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CHECK HospY AND HospZ FOR WHEREABOUTS OF REVENUE AND ??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SPECIFIC COR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RICHARD  MARSHALL</cp:lastModifiedBy>
  <dcterms:modified xsi:type="dcterms:W3CDTF">2011-12-03T05:13:40Z</dcterms:modified>
  <cp:revision>123</cp:revision>
  <dc:subject/>
  <dc:title>Наслов</dc:title>
</cp:coreProperties>
</file>