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51675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70524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560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3995280" y="-360"/>
            <a:ext cx="30560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EB4C-4C62-4BF7-ACBF-0FAF50F2463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1257120" y="680760"/>
            <a:ext cx="4539960" cy="340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5"/>
          </p:nvPr>
        </p:nvSpPr>
        <p:spPr>
          <a:xfrm>
            <a:off x="-360" y="8624520"/>
            <a:ext cx="30560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6"/>
          </p:nvPr>
        </p:nvSpPr>
        <p:spPr>
          <a:xfrm>
            <a:off x="3995280" y="8624520"/>
            <a:ext cx="30560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21E4-90EE-4776-A908-18C6D4E74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69EC-C94E-42D5-B8A2-4AF07987F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XT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115C-F584-4DD2-A19C-FA41BA010D3F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NEX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86C2-1F78-43AC-9E0A-28C6B2AD9072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XT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417B-BE18-42CB-AFD2-1A7F7ED63A41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XT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71B9-43BC-4C99-84A9-BDB931FFF61A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XT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E684-DABD-4272-ACD7-387A86E4DFDA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XT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AC05-8BB6-4BAA-83CE-74143BFC6A70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XT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CCA5-73AB-438A-B32F-DD908124914B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XT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6CB2-D8BB-4E61-9F41-28DA79981CE1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XT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D6B2-E3B6-48AF-A1A9-9BB8EEA3A832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standards direct coders to assign additional codes that may not meet the additional Dx standard. The assignment of these codes is to show a status of a patient or some other additional information about the patient that may not be related to the condition being tre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XT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ED4A-7C68-4A24-BFB4-F901190316D6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oding is not always a case of assigning a code or two to a medical rec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any patients may be quite complex due t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ultiple different conditions affecting them at the same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ultiple components of the one con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Undergoing complex surg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ahoma"/>
              </a:rPr>
              <a:t>Multiple codes to translate the medical or surgical stat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XT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6B6E-418D-4509-9B78-32A160CD6B17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in aim of coding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to translate medical statements into codes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here are situations where multiple codes may need to be assigned to ensure a good transl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e codes to reflect the various components of a disease, particularly in cases where one code will not provide the total concep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XT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7368-6AA9-47EC-81A3-3E0CA830F3B0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ddition of an additional code will ensure that the entire concept is captured by the codes.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 when using a code from category I60–I69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erebrovascular diseas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hypertension will also be coded if present as there is an instruction at this category to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"Use additional code to identify presence of hypertension"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XT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9E46-7FE6-4569-9DD7-825B273EDCFC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 when using a code from category I60–I69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erebrovascular diseas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hypertension will also be coded if present as there is an instruction at this category to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"Use additional code to identify presence of hypertension"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XT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274B-B0BB-49C6-B5A0-C99CEA9B5522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XT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E24F-F0B9-41D9-A847-5ED007DB4FD9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NEX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B2DF-D36A-47C6-8E58-544A0CFF6A03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XT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3BA9-34FD-471E-8766-C3F90480F437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NEX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F576-09D6-4F90-B335-3AB78785AE27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5EA2-A692-4D3B-A55A-B47F8FF9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3408-CCCB-4EA3-8CA2-F4016811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79FC-4A54-41BF-9FD6-D27B6833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FA6C-CB50-4D8A-8DFF-F94683B9A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E485-E589-447E-9737-731CE952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4A6E-5279-4EAB-BD5D-EA095F1C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10D1-2325-48E3-B307-7D5FB22E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5303-733C-4345-9E66-F79F1153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CF25-7403-432F-827E-A04D6832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0FD3-6CAC-4E6E-B90A-6B889AC9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017D-B6E2-4423-901C-62E8D20C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1783-575F-47F0-A373-AC856053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2D0C-764C-4751-92D1-74DA257E3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ogo2"/>
          <p:cNvPicPr/>
          <p:nvPr/>
        </p:nvPicPr>
        <p:blipFill>
          <a:blip r:embed="rId2">
            <a:alphaModFix amt="0"/>
          </a:blip>
          <a:srcRect l="0" t="0" r="0" b="26913"/>
          <a:stretch/>
        </p:blipFill>
        <p:spPr>
          <a:xfrm>
            <a:off x="-3816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1"/>
          <p:cNvSpPr/>
          <p:nvPr/>
        </p:nvSpPr>
        <p:spPr>
          <a:xfrm>
            <a:off x="1676520" y="617220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erbia Health Project – Additional Financing</a:t>
            </a:r>
            <a:r>
              <a:rPr b="1" lang="sr-C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06060"/>
                </a:solidFill>
                <a:latin typeface="Calibri"/>
              </a:rPr>
              <a:t>Training for Trainers on AR-DRG, 05-09.12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2774880" y="2781360"/>
            <a:ext cx="3594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4" descr="pravi_grb"/>
          <p:cNvPicPr/>
          <p:nvPr/>
        </p:nvPicPr>
        <p:blipFill>
          <a:blip r:embed="rId3"/>
          <a:stretch/>
        </p:blipFill>
        <p:spPr>
          <a:xfrm>
            <a:off x="533520" y="0"/>
            <a:ext cx="571320" cy="990720"/>
          </a:xfrm>
          <a:prstGeom prst="rect">
            <a:avLst/>
          </a:prstGeom>
          <a:ln w="0">
            <a:noFill/>
          </a:ln>
        </p:spPr>
      </p:pic>
      <p:grpSp>
        <p:nvGrpSpPr>
          <p:cNvPr id="9" name="Group 47"/>
          <p:cNvGrpSpPr/>
          <p:nvPr/>
        </p:nvGrpSpPr>
        <p:grpSpPr>
          <a:xfrm>
            <a:off x="0" y="990720"/>
            <a:ext cx="1676520" cy="365040"/>
            <a:chOff x="0" y="990720"/>
            <a:chExt cx="1676520" cy="365040"/>
          </a:xfrm>
        </p:grpSpPr>
        <p:sp>
          <p:nvSpPr>
            <p:cNvPr id="10" name=""/>
            <p:cNvSpPr/>
            <p:nvPr/>
          </p:nvSpPr>
          <p:spPr>
            <a:xfrm>
              <a:off x="0" y="990720"/>
              <a:ext cx="1676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Република Србиј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МИНИСТАРСТВО ЗДРАВЉ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99072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35576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7320" y="3700440"/>
            <a:ext cx="8675640" cy="16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da B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45 - 12.30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ursday, </a:t>
            </a: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th Decembe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x issues in cod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840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0661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120000"/>
              </a:lnSpc>
              <a:spcBef>
                <a:spcPts val="7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(con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Multiple codes for a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Arial"/>
                <a:ea typeface="Tahoma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 patient with AIDS is admitted with a principal diagnosis of Kaposi sarcoma of skin, and additional diagnoses of wasting syndrome and CMV retinit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C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5910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46.0   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Kaposi sarcoma of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21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Human immunodeficiency virus [HIV] 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disease resulting in malignant neopla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30.9   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Chorioretinal inflammation, unspec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25.8   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Other cytomegaloviral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64      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Cachex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840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06616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(con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Multiple trau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Code for each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Code for the external cause of the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Code for the place of occurrence of the external 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Code for the patient’s activity at the time of the external ca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840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06616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(con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Obst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Codes for antepartum condi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Codes for conditions related to labour an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Codes for postpartum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840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06616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(con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Obstetrics (co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Additional codes for further specif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e.g. </a:t>
            </a:r>
            <a:r>
              <a:rPr b="0" lang="en-AU" sz="2400" spc="-1" strike="noStrike">
                <a:solidFill>
                  <a:srgbClr val="7030a0"/>
                </a:solidFill>
                <a:latin typeface="Arial"/>
                <a:ea typeface="Tahoma"/>
              </a:rPr>
              <a:t>O99 </a:t>
            </a:r>
            <a:r>
              <a:rPr b="0" i="1" lang="en-AU" sz="2400" spc="-1" strike="noStrike">
                <a:solidFill>
                  <a:srgbClr val="7030a0"/>
                </a:solidFill>
                <a:latin typeface="Arial"/>
                <a:ea typeface="Tahoma"/>
              </a:rPr>
              <a:t>Other maternal diseases classifiable elsewhere but complicating pregnancy, childbirth and the puerperi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  <a:ea typeface="Tahoma"/>
              </a:rPr>
              <a:t>Coding note “</a:t>
            </a:r>
            <a:r>
              <a:rPr b="0" i="1" lang="en-AU" sz="2400" spc="-1" strike="noStrike">
                <a:solidFill>
                  <a:srgbClr val="7030a0"/>
                </a:solidFill>
                <a:latin typeface="Arial"/>
                <a:ea typeface="Tahoma"/>
              </a:rPr>
              <a:t>Use additional code to identify specific condi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utcome of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840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0661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20000"/>
              </a:lnSpc>
              <a:spcBef>
                <a:spcPts val="7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(con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Medical and surgical co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Code for each complication (+/- site c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Code for the external cause of the com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Code for the place of occurrence of the external 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840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06616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(con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Complex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Code also note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Arial"/>
                <a:ea typeface="Tahoma"/>
              </a:rPr>
              <a:t>For examp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40903-00[1]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euroend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raventricular neuroend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Code also when perform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32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sertion of shunt (40003-00, 40003-01, 40003-02,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40003-03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[5]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32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ird ventriculostomy (40012-00, 40012-01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[19]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840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06616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(con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Complex surgery (co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Need to capture all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Arial"/>
                <a:ea typeface="Tahoma"/>
              </a:rPr>
              <a:t>For examp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C</a:t>
            </a:r>
            <a:r>
              <a:rPr b="1" i="1" lang="en-AU" sz="2400" spc="-1" strike="noStrike">
                <a:solidFill>
                  <a:srgbClr val="000000"/>
                </a:solidFill>
                <a:latin typeface="Arial"/>
                <a:ea typeface="Tahoma"/>
              </a:rPr>
              <a:t>ABG x3 using LIMA and saphenous vein x2 under GA, ASA 3 with CPB. Post-op required 30 hours of venti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840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06616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38500-00 [674] 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Coronary artery bypass, using 1 LIMA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g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38497-01 [672] 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Coronary artery bypass, using 2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saphenous vein gra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38600-00 [642] 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Cardiopulmonary bypass, central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cann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92514-39 [1910] 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GA, ASA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13882-01 [569] 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Management of continuous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ventilatory support, &gt; 24 and &lt; 96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840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806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120000"/>
              </a:lnSpc>
              <a:spcBef>
                <a:spcPts val="7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(con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Specialty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iral Hepat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obacc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utcome of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ersonal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840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Complex co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06616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20000"/>
              </a:lnSpc>
              <a:spcBef>
                <a:spcPts val="7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Coding is not always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20000"/>
              </a:lnSpc>
              <a:spcBef>
                <a:spcPts val="7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Complexity du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Multiple different condi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Multiple components of the one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Complex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Multiple codes to translate the medical or surgical statem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840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06616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20000"/>
              </a:lnSpc>
              <a:spcBef>
                <a:spcPts val="7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Multiple 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Reflect the various components of a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Tahoma"/>
              </a:rPr>
              <a:t>For exampl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Young’s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842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Tahoma"/>
              </a:rPr>
              <a:t>N46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  <a:ea typeface="Tahoma"/>
              </a:rPr>
              <a:t>Male infer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842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Tahoma"/>
              </a:rPr>
              <a:t>J98.4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  <a:ea typeface="Tahoma"/>
              </a:rPr>
              <a:t>Other disorders of 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842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Tahoma"/>
              </a:rPr>
              <a:t>J47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  <a:ea typeface="Tahoma"/>
              </a:rPr>
              <a:t>Bronchiect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840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06616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120000"/>
              </a:lnSpc>
              <a:spcBef>
                <a:spcPts val="7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Multiple coding (co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Ensure the entire concept is captu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Tahoma"/>
              </a:rPr>
              <a:t>For exampl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Laparoscopic hepatect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Tahoma"/>
              </a:rPr>
              <a:t>90346-00 [953]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  <a:ea typeface="Tahoma"/>
              </a:rPr>
              <a:t>Total hepatect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Tahoma"/>
              </a:rPr>
              <a:t>30390-00 [984]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  <a:ea typeface="Tahoma"/>
              </a:rPr>
              <a:t>Laparosc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840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06616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20000"/>
              </a:lnSpc>
              <a:spcBef>
                <a:spcPts val="7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Multiple coding (co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When directed by a coding n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Arial"/>
                <a:ea typeface="Tahoma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"Use additional code to identify presence of hypertension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840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06616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20000"/>
              </a:lnSpc>
              <a:spcBef>
                <a:spcPts val="7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Multiple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Arial"/>
                <a:ea typeface="Tahoma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Patient  admitted with a stroke, hemiplegia and dysphagia, unstable hypertension, develops urinary retention, UTI, decubitus ulcer. Has longstanding emphysema and all these conditions are treated during the episode of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C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972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I64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Stroke, not specified as haemorrhage or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infar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G81.9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Hemiplegia, unspec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R13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Dyspha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I10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R33 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Retention of u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N39.0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Urinary tract infection, site not spec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L89.9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Decubitus ulcer and pressure area,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unspec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J43.9</a:t>
            </a:r>
            <a:r>
              <a:rPr b="0" lang="en-AU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Emphysema, unspec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840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0661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(con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Multiple codes for a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Arial"/>
                <a:ea typeface="Tahoma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Type 2 Diabetic patient with microvascular complications of end-stage kidney disease and retinopat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C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5910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E11.71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Type 2 diabetes mellitus with multiple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microvascular and other specified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nonvascular co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N18.5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Chronic kidney disease, stage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H35.0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Background retinopathy and retinal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vascular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1:38:04Z</dcterms:created>
  <dc:creator>Dragana</dc:creator>
  <dc:description/>
  <dc:language>en-US</dc:language>
  <cp:lastModifiedBy>marijanao</cp:lastModifiedBy>
  <dcterms:modified xsi:type="dcterms:W3CDTF">2011-12-21T06:17:03Z</dcterms:modified>
  <cp:revision>213</cp:revision>
  <dc:subject/>
  <dc:title>Наслов</dc:title>
</cp:coreProperties>
</file>