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709-5A7B-4B05-A274-7D7C1CF49E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352-9524-45C0-9F18-53300A7F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1F06-7BDD-43D8-BAD4-59BDFCCD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DA29-524F-4DF2-A296-0C61A505481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522-51AE-4996-A76E-CC5631142CC8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57F4-7E16-4C4B-86F8-ADBC7F4346D3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16C-D655-49C0-B2B9-75DEF882532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BF4-0494-4F42-8534-4BF795C8C2E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E5C-B7AF-4309-A7FA-C0C9A9D8FA29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B652-0DE6-46F3-AF68-60E6EDAEC697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636-F29C-4B82-BEAD-A28FBF0C38F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8F8-DBDF-4503-B6DE-6871E77B275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andards direct coders to assign additional codes that may not meet the additional Dx standard. The assignment of these codes is to show a status of a patient or some other additional information about the patient that may not be related to the condition being t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1D1-015D-43CF-8A33-04921946C9A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ding is not always a case of assigning a code or two to a medical rec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any patients may be quite complex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ultiple different conditions affecting them at the same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Multiple components of the one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ndergoing complex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ahoma"/>
              </a:rPr>
              <a:t>Multiple codes to translate the medical or surgical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542-3622-4EB2-A312-B25F6DFFFB2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aim of coding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 translate medical statements into code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re are situations where multiple codes may need to be assigned to ensure a good trans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odes to reflect the various components of a disease, particularly in cases where one code will not provide the total con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677-F263-4344-BEBF-A37DBB7006A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an additional code will ensure that the entire concept is captured by the codes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 using a code from category I60–I69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erebrovascular disea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ypertension will also be coded if present as there is an instruction at this category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"Use additional code to identify presence of hypertension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FBB-A083-4973-BA7B-B056E1637A3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 using a code from category I60–I69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erebrovascular diseas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ypertension will also be coded if present as there is an instruction at this category 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"Use additional code to identify presence of hypertension"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8416-8229-43DC-AC26-7A5796E54BC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4AE4-94AE-431E-950B-5BD7F03B3F41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E2B1-E632-4BEA-A4E1-A97298BA773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XT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70B-7E7D-4274-AB0B-F7751D3E74BD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0F98-07F5-418F-8C0E-3B71D83AD19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2CB-754E-41C3-BFB5-95B91473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D55-2FF3-4459-A187-F798C05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B8C-CE0C-4892-B832-AF26741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BC9-33F7-48AA-9150-0E6537D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BCC-C982-4788-8BA2-C412F14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368-5EA8-49AB-BCE4-A85887D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A55-9A17-4FBC-BE06-8AC1669A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6C7-245E-48C0-817C-11A1064E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E95-2492-4DF7-AAE4-E182AB0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2EA-56B4-4A99-95B7-1E79627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DEB-7CF9-4043-9C45-902BEC8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730-3B34-4CBC-ABDB-45AB238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23D7-5C0E-40FF-B393-F79456A8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da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45 - 12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ursday,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issues in co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for a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patient with AIDS is admitted with a principal diagnosis of Kaposi sarcoma of skin, and additional diagnoses of wasting syndrome and CMV retinit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91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46.0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Kaposi sarcoma of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21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uman immunodeficiency virus [HIV]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disease resulting in malignant neopl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30.9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horioretinal inflammation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25.8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Other cytomegaloviral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64     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ach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each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external cause of th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lace of occurrence of the extern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atient’s activity at the time of the external 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661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bst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antepartum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conditions related to labour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s for postpartum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bstetric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dditional codes for furth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.g. </a:t>
            </a:r>
            <a:r>
              <a:rPr b="0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O99 </a:t>
            </a:r>
            <a:r>
              <a:rPr b="0" i="1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Other maternal diseases classifiable elsewhere but complicating pregnancy, childbirth and the puerpe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Coding note “</a:t>
            </a:r>
            <a:r>
              <a:rPr b="0" i="1" lang="en-AU" sz="2400" spc="-1" strike="noStrike">
                <a:solidFill>
                  <a:srgbClr val="7030a0"/>
                </a:solidFill>
                <a:latin typeface="Arial"/>
                <a:ea typeface="Tahoma"/>
              </a:rPr>
              <a:t>Use additional code to identify specific cond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utcome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edical and surgical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each complication (+/- site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external cause of th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for the place of occurrence of the external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de also not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40903-00[1]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uroend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raventricular neuroend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de also when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ertion of shunt (40003-00, 40003-01, 40003-02,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0003-03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[5]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rd ventriculostomy (40012-00, 40012-01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[19]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eed to capture al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ahoma"/>
              </a:rPr>
              <a:t>ABG x3 using LIMA and saphenous vein x2 under GA, ASA 3 with CPB. Post-op required 30 hours of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500-00 [674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ronary artery bypass, using 1 LIM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497-01 [672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ronary artery bypass, using 2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aphenous vein g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8600-00 [642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ardiopulmonary bypass, centr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ann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92514-39 [1910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GA, AS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3882-01 [569]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anagement of continuou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ventilatory support, &gt; 24 and &lt; 9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6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Special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iral Hep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obacc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utcome of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sonal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ding is not alway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ity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different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mponents of the on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Complex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to translate the medical or surgical stat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Reflect the various components of a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Young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N46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Male in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J98.4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Other disorders of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J47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Bronchiec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sure the entire concept is cap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aparoscopic hep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90346-00 [953]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Total hep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30390-00 [984]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ahoma"/>
              </a:rPr>
              <a:t>Lapa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0661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Multiple coding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hen directed by a coding 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"Use additional code to identify presence of hypertension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0661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atient  admitted with a stroke, hemiplegia and dysphagia, unstable hypertension, develops urinary retention, UTI, decubitus ulcer. Has longstanding emphysema and all these conditions are treated during the episode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972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64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Stroke, not specified as haemorrhage or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nfar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G81.9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emiplegia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13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Dysph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I10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33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Retention of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39.0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Urinary tract infection, site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L89.9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Decubitus ulcer and pressure area,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J43.9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Emphysema, 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661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omplex coding (co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Multiple codes for a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Tahoma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ype 2 Diabetic patient with microvascular complications of end-stage kidney disease and retinopa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91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E11.71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Type 2 diabetes mellitus with multiple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microvascular and other specified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onvascular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N18.5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Chronic kidney disease,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H35.0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Background retinopathy and retinal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  <a:ea typeface="Tahoma"/>
              </a:rPr>
              <a:t>vascula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03Z</dcterms:modified>
  <cp:revision>213</cp:revision>
  <dc:subject/>
  <dc:title>Наслов</dc:title>
</cp:coreProperties>
</file>