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C35D-F0CA-4179-AB77-A31F5E75FD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9DF-613B-4B02-B3FA-2DB80160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700-81C7-4C1D-BC9E-865E9FC8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7A8-B985-4E9B-9D32-F6B2F79E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A22-451B-44C9-B3DA-CDCFA3E1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F96-56C9-4917-9903-71AB5949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46A-97F2-44BB-A3CB-E6B50CBF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D13-9CE5-4FDC-A286-A403E7C9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8132-F155-4051-9D0C-5A808EE9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5EDF-9C9D-4406-8D9D-EB1824C7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6825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9600" y="4312800"/>
            <a:ext cx="51735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C4A-D29B-4DFC-A4B7-29797D7E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8920" y="6825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9600" y="4312800"/>
            <a:ext cx="51735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C5DB-8E83-44BC-A865-4D1B6F3B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FE1-1F12-424B-BB95-22A34497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2F6-3216-4CAB-95DC-618437E7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DCC-A05D-40E4-BE58-4239E405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8298-6648-4464-9B81-A6F014DD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547-9917-4DF5-B688-3F073117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F51-2A38-4FA6-9D11-57E198E54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7251-DDD4-48BB-9992-ED1DC57B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B33-0483-4441-910B-8AACC8CD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6C7-434E-4EFB-9955-275735E17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8CA-9A20-4D8B-BA93-EB1D85CD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2EB8-A633-46CF-8A15-D1E72AE8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31D7-F176-4E6C-A833-725B644D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43C-CF1B-4C70-BF48-6B5C0BB4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B25-0E2B-4F12-8830-64EB3DCD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880-64E1-4FF0-BDD4-7A9D5C09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E8A-736D-4704-8FF2-73C3DC490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259-A572-4767-B607-8C1200D2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FAC-0C82-40E4-9353-1CF62E0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129-D7C5-407A-9EF9-0B7236E6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FD0-9E46-4D23-A264-DFACE8F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2A563-9DF0-438A-9F0A-43E0CAB7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B136-65D8-4B04-A244-5B14549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5065C-C313-46E2-BDD8-F5A8A720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D7C0-B201-4EB9-B572-1F3F4FC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D2EBC-8B84-4B06-83EB-2AA4F4F8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02DD-1DBC-443E-A78F-C2D81EE1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BE01F-3972-4DC8-8615-C2C216F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E94-3F6B-4E2F-80ED-832B0C4B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9E9B-716E-4373-AD79-2CEA2E6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CE9DB-BDAD-4123-B45E-2ABB8317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A2D2A-C111-4A3D-9FC9-EF091E7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1CCD-05FA-4005-920F-F20E31D6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32BD7-7D49-49BF-AFC0-7B0B3EEF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8F0-C197-4872-A2A8-626EA3E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05D-8FA5-45F5-B091-19774332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018-4563-4488-9339-1863A04E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B7E-1837-461B-B300-B8DD9722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D86-F1B1-4FA1-93FB-C88EDADD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840-96D2-4471-A457-FA06DB5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031-0966-48CF-A90C-B38A8DA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068-0AE6-443C-8B89-239E9BD68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56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375-AF11-4F02-9276-2D0F692F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ursday, 8th December 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0-10.45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adjustments (For funding models)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to keep classes to manageab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to specifying outl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 policies or classific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lear Description of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health systems fund different activities 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providers usually include capital costs through depreciation, while public providers often have a separate funding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ystems exclude (or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und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ome highly variable/high cost components of care, like intensive care or pros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racted prices should match the appropriat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ight not happen if you adopt other countrie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sts (eg no blood costs in Australian d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ying Contract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0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 Value Score (Cost Weight) × Uni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weights are derived empirically from hospi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 price is nego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deally all hospitals would have same unit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unit price can be modified to reflect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fferences in cost between groups of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fficiencies of scale (eg Victo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ransition arrangements ie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en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sired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with the hospita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verage cost (as in the Ir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and the private sector in Austra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Hospital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s are only designed to describe acute admitted hospital epis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lassifications are needed for other hospital ser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sta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romo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good are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DRGs explain about 25%-40% of the variation in the costs of treating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et a random sample of patients.  Referral patterns and role delineation means that some hospitals treat sicker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ystems have rules that provide extra payments so hospitals ar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 disadvantaged (ie share financial ris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ppropriate risk mitigation, funding models can explain over 80% of the variation in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590400"/>
            <a:ext cx="76960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to moderate financial ri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048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inancial risk moderation for individual patients through outlie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ame day polic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everity co-payments for specific subgroups within DRG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gh cost patient “adjustment funding poo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947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Outlier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1986120" y="5291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1986120" y="277632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1986120" y="3105000"/>
            <a:ext cx="5126040" cy="213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86600" y="2928960"/>
            <a:ext cx="12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189960" y="6053040"/>
            <a:ext cx="231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of stay (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433680" y="5443560"/>
            <a:ext cx="152424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verag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595600" y="5291280"/>
            <a:ext cx="930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ow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491080" y="5367240"/>
            <a:ext cx="1067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igh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5719680" y="5062680"/>
            <a:ext cx="1373400" cy="230040"/>
          </a:xfrm>
          <a:prstGeom prst="pie">
            <a:avLst/>
          </a:pr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1986120" y="4376880"/>
            <a:ext cx="915840" cy="915840"/>
          </a:xfrm>
          <a:prstGeom prst="pie">
            <a:avLst/>
          </a:pr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2900520" y="3081240"/>
            <a:ext cx="2820960" cy="2211480"/>
          </a:xfrm>
          <a:prstGeom prst="pie">
            <a:avLst/>
          </a:pr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719680" y="4300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900520" y="43005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3662280" y="32338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900520" y="430056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435640" y="3284640"/>
            <a:ext cx="301680" cy="225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669280" y="2741760"/>
            <a:ext cx="349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below the standard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435640" y="2852640"/>
            <a:ext cx="301680" cy="225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5714640" y="3157560"/>
            <a:ext cx="268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the standar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5432400" y="3727440"/>
            <a:ext cx="3016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5666760" y="3538440"/>
            <a:ext cx="3454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above the standar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1131840" y="281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5"/>
          <p:cNvGrpSpPr/>
          <p:nvPr/>
        </p:nvGrpSpPr>
        <p:grpSpPr>
          <a:xfrm>
            <a:off x="6269040" y="4148280"/>
            <a:ext cx="2043000" cy="1008000"/>
            <a:chOff x="6269040" y="4148280"/>
            <a:chExt cx="2043000" cy="1008000"/>
          </a:xfrm>
        </p:grpSpPr>
        <p:sp>
          <p:nvSpPr>
            <p:cNvPr id="163" name="Freeform 26"/>
            <p:cNvSpPr/>
            <p:nvPr/>
          </p:nvSpPr>
          <p:spPr>
            <a:xfrm>
              <a:off x="6269040" y="4148280"/>
              <a:ext cx="2043000" cy="1008000"/>
            </a:xfrm>
            <a:prstGeom prst="pie">
              <a:avLst/>
            </a:pr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35480" y="4199040"/>
              <a:ext cx="1177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808080"/>
                  </a:solidFill>
                  <a:latin typeface="Arial"/>
                </a:rPr>
                <a:t>High Outl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8"/>
          <p:cNvGrpSpPr/>
          <p:nvPr/>
        </p:nvGrpSpPr>
        <p:grpSpPr>
          <a:xfrm>
            <a:off x="843120" y="5246640"/>
            <a:ext cx="1769760" cy="1188720"/>
            <a:chOff x="843120" y="5246640"/>
            <a:chExt cx="1769760" cy="1188720"/>
          </a:xfrm>
        </p:grpSpPr>
        <p:sp>
          <p:nvSpPr>
            <p:cNvPr id="166" name="Freeform 29"/>
            <p:cNvSpPr/>
            <p:nvPr/>
          </p:nvSpPr>
          <p:spPr>
            <a:xfrm>
              <a:off x="843120" y="5246640"/>
              <a:ext cx="1769760" cy="1188720"/>
            </a:xfrm>
            <a:prstGeom prst="pie">
              <a:avLst/>
            </a:pr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939600" y="5570280"/>
              <a:ext cx="1177560" cy="81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808080"/>
                  </a:solidFill>
                  <a:latin typeface="Arial"/>
                </a:rPr>
                <a:t>Low Outl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1"/>
          <p:cNvSpPr/>
          <p:nvPr/>
        </p:nvSpPr>
        <p:spPr>
          <a:xfrm>
            <a:off x="900000" y="1555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justments are made to the “average” rate for patients that stay in hospital for fewer days than or more days than the pre-defined times for each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eneral Casemix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1835280" y="1447920"/>
            <a:ext cx="5209920" cy="912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Da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fferences between the costs of DRGs in different hospitals can  be due to differences in the proportions of same day cases.  This can be due to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t types of cases in the DRG (COMPLEX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ces in admission/discharge policy (eg admitting rather than treating on an outpatient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spital clin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ing separate same day payment rate within a DRG  can be used to prevent hospitals with mostly overnight patients being inappropriately disadvant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me day payment rates are not always a good idea because they can discourage  hospitals from moving to same day care where appropriate – CLINICAL JUDGEMENT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-payments for specific subgroups within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possible to identify subgroups within a DRG that cost more than the average.  In these cases additional payments can b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ayments are best used where  groups of patients have higher than average cost in many DRGs.  eg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ventilat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oo many copayments reverts back to input based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G classifications around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s or ‘Block funding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costs for some hospital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quantify (eg teaching hospital costs)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irectly related to activity (eg running an emergency department; the department must be kept open regardless of the level of ac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ch cases cash grants are often paid to hospitals in addition to activity based f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grants are often easier to use  in a public system than in a privat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justment Funding 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budget is put aside for allocating additional funding for specific patients based upon applications from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 New Technology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$3million is set aside and hospitals apply for funding specific technologies in small numbers of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 High Cost Patient Pool in Western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0% of total hospital costs are required to treat the most expensive 5% of patients.  These patients are difficult to fund under the casemix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. In WA hospitals are able to apply for additional funding for individual patients, but patien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ords are independently clinically reviewed and payment approved by an industry committ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oderation While in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ew activity based funding models are introduced not all hospitals are equally affected- some win and others 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protect hospitals from extreme budgetary changes until they have time to adjust to the new funding model (ie find efficienc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ually done by introduc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ts or differential unit prices in the first few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asemix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mix was initially developed as a prospective payment mechanism (ie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ctivity determine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din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pproach is still widely used (eg USA Medicare, Victoria public hospitals and within the Private sec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ive payment increases the incentives to achieve technical efficiency but reduces budgetary certainty for hosp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mix can also be used as a retrospective payment mechanism (ie last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ctivity determine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din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of model is used in Ireland and New South W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in retrospective casemix model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dget is set based upon last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dget plus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ing the total amount of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suggests that health expenditure is extremely elastic and the potential to spend money on health care almost certainly exceeds any syste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apacity to pay for tha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ystems attempt to limit the amount of activity fund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ctivity caps (ie only funding activity to a certain level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ing funding for some health care intervention   (eg cosmetic surgery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patient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around activit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 cannot exactly identify how many people will be ad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models can be designed to accommodate this uncertainty by funding activity above target activity at a marginal rate and reducing funding at a marginal rate for hospitals failing to achieve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ponents of a successful casemix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evious slides we have described the technical issues in developing a successful casemix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chnical issues are equally important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ness and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akeholder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ormal channels of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illingness to listen an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source homogeneity and clinical meaningfulnes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compensate for “classification fail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classification may not be able to measure the selection by one hospital of particular types of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 use additional flag for a price adjustment – eg use of ventilation, Dx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hospital fl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00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 of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 for classification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and exceptional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ystems use outliers or exceptional case adjus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ocumented example is Vic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s call it “tinkering” or interfering with the signals from the paym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say that it adds precisions and fairness to the pay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 categories in Fund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and different models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e care typ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pt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atient and sub-acute caseload and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OR CONSIST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S WITH APP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ssion and discharge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important where substitution with inpatient services can occur 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up for a surgical ad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habilitation phase of a join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ven complete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neutral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and clear definitions of payment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677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atient activity management tool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, MODELLING,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of adjustments for funding pr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5:59Z</dcterms:modified>
  <cp:revision>211</cp:revision>
  <dc:subject/>
  <dc:title>Наслов</dc:title>
</cp:coreProperties>
</file>