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70524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995280" y="-36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4943-8B96-4E6F-8106-71EDCB48EE5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257120" y="680760"/>
            <a:ext cx="453996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995280" y="8624520"/>
            <a:ext cx="30560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F40C-42C4-4F12-95AD-F53C5A18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85AE-6EEC-4973-A0AC-5C1F00FBF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1C9E-9B15-4CB0-8F12-701C1DAC0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A5B4-C3FF-49EA-B99A-D20422853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91B5-3BC6-43C5-8719-7D071D1C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8A30-E5B3-4396-A36B-4E2AB5F91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9648-8D39-40E4-A763-71B476CA1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94A1-08F2-45E2-9616-15CC2170A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F8D7-E812-4081-9412-20B16C35C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8920" y="68256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9600" y="4312800"/>
            <a:ext cx="51735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3874-7010-4498-86F0-564BA9EE5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8920" y="68256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9600" y="4312800"/>
            <a:ext cx="51735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4D2B-01F2-48CD-816C-3DA219448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B549-1F87-4059-B3AA-98287A701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68BA-85A3-49D2-BB3B-711E5605B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F9E4-C61F-4416-9F3E-C3D11649C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2E0B-96B0-4DC7-B8E4-8B5CEE537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C6B6-1488-4215-9BF4-1BFC858CC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4E18-F824-4926-BF41-012B9369E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0E68-EF4A-46B4-BC7A-4FE5597D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D6BA-B14B-48D0-817A-AE12FC8E6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55C0-CDC6-4894-8932-BA3BB172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32AD-BF57-4B87-89CD-23CE4651A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7A1E-5FA1-4BE3-AA36-B53E883E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E360-240C-41A7-A89A-C0E088E3B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BF50-D348-4149-AA95-EBC79A63A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0E8C-A831-40E4-84FE-1000334A8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BC53-12FD-4C98-BECA-8ED3D5D26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4880" y="4312800"/>
            <a:ext cx="564336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95640" y="8624880"/>
            <a:ext cx="305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EA9B-168A-4741-915F-4EDB81356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675-F7B2-419D-9A7C-5DF7F505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6AB-3837-4FD0-8C2F-3CE31DBC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2AC-26F1-4183-B0E3-3EE008A7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842-FCB8-4E97-913B-C68AD8A4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F4C10-AD6B-42F1-B97A-4267135D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15430-C58C-4364-9BAD-76DA165E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A8045-D639-4143-9F66-B96D8E99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649F7-3371-4F04-AA09-EC414B03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12B56-C465-495A-B4AA-43764899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F48B8-6503-446A-9377-5DD1789F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5947C-C152-43A8-B36B-24EA879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2AA-65DA-48A5-A4F5-AB91C736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96A64-6306-427C-9DBC-0CC9EE1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B589C-C5BD-4B39-8DA3-C352D81B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E957C-993E-425C-9734-81A02197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03AB3-058A-4A0A-BA3F-F40D28B9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D6026-0393-46E6-9D85-AF2931D8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20D-4CC8-4458-A784-D12EA31E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1B1-E8E4-42AC-9DA2-68C84D29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15F-2EFE-417F-AF76-32E032A2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4EB-593F-4365-A74B-81FDD241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F46-AA1D-49F7-840F-1A158C02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FD4-3798-4AE1-9D91-E151A13E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F22-A898-45C7-AAA4-C2E4EC1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4545-ECC2-40E2-8C85-51A197473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56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7A34-220D-4B01-B3DE-4493996D8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ursday, 8th December 2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00-10.45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adjustments (For funding models)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to keep classes to manageabl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es to specifying outl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er policies or classifica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lear Description of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health systems fund different activities 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 providers usually include capital costs through depreciation, while public providers often have a separate funding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systems exclude (or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bundl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ome highly variable/high cost components of care, like intensive care or pros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tracted prices should match the appropriat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ight not happen if you adopt other countries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sts (eg no blood costs in Australian d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97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fying Contract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20872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ve Value Score (Cost Weight) × Unit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weights are derived empirically from hospit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nit price is nego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deally all hospitals would have same unit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he unit price can be modified to reflect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fferences in cost between groups of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efficiencies of scale (eg Victo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ransition arrangements ie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en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sired un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with the hospital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average cost (as in the Ir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and the private sector in Austra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Hospital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Gs are only designed to describe acute admitted hospital epis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lassifications are needed for other hospital serv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sta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promo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good are 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DRGs explain about 25%-40% of the variation in the costs of treating pat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s 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get a random sample of patients.  Referral patterns and role delineation means that some hospitals treat sicker pat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ystems have rules that provide extra payments so hospitals are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 disadvantaged (ie share financial ris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ppropriate risk mitigation, funding models can explain over 80% of the variation in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590400"/>
            <a:ext cx="769608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s to moderate financial ris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048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inancial risk moderation for individual patients through outlier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ame day polic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Severity co-payments for specific subgroups within DRG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igh cost patient “adjustment funding poo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947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Outlier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1986120" y="529128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1986120" y="277632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5"/>
          <p:cNvSpPr/>
          <p:nvPr/>
        </p:nvSpPr>
        <p:spPr>
          <a:xfrm>
            <a:off x="1986120" y="3105000"/>
            <a:ext cx="5126040" cy="213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86600" y="2928960"/>
            <a:ext cx="12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189960" y="6053040"/>
            <a:ext cx="231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of stay (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433680" y="5443560"/>
            <a:ext cx="152424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verage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595600" y="5291280"/>
            <a:ext cx="930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ow Bound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491080" y="5367240"/>
            <a:ext cx="1067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igh Bound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5719680" y="5062680"/>
            <a:ext cx="1373400" cy="230040"/>
          </a:xfrm>
          <a:prstGeom prst="pie">
            <a:avLst/>
          </a:pr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1986120" y="4376880"/>
            <a:ext cx="915840" cy="915840"/>
          </a:xfrm>
          <a:prstGeom prst="pie">
            <a:avLst/>
          </a:pr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3"/>
          <p:cNvSpPr/>
          <p:nvPr/>
        </p:nvSpPr>
        <p:spPr>
          <a:xfrm>
            <a:off x="2900520" y="3081240"/>
            <a:ext cx="2820960" cy="2211480"/>
          </a:xfrm>
          <a:prstGeom prst="pie">
            <a:avLst/>
          </a:pr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5719680" y="4300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2900520" y="430056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3662280" y="323388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>
            <a:off x="2900520" y="430056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5435640" y="3284640"/>
            <a:ext cx="301680" cy="225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669280" y="2741760"/>
            <a:ext cx="349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id below the standard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5435640" y="2852640"/>
            <a:ext cx="301680" cy="225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5714640" y="3157560"/>
            <a:ext cx="268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id the standar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5432400" y="3727440"/>
            <a:ext cx="301680" cy="225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5666760" y="3538440"/>
            <a:ext cx="34542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id above the standar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1131840" y="281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5"/>
          <p:cNvGrpSpPr/>
          <p:nvPr/>
        </p:nvGrpSpPr>
        <p:grpSpPr>
          <a:xfrm>
            <a:off x="6269040" y="4148280"/>
            <a:ext cx="2043000" cy="1008000"/>
            <a:chOff x="6269040" y="4148280"/>
            <a:chExt cx="2043000" cy="1008000"/>
          </a:xfrm>
        </p:grpSpPr>
        <p:sp>
          <p:nvSpPr>
            <p:cNvPr id="163" name="Freeform 26"/>
            <p:cNvSpPr/>
            <p:nvPr/>
          </p:nvSpPr>
          <p:spPr>
            <a:xfrm>
              <a:off x="6269040" y="4148280"/>
              <a:ext cx="2043000" cy="1008000"/>
            </a:xfrm>
            <a:prstGeom prst="pie">
              <a:avLst/>
            </a:pr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7035480" y="4199040"/>
              <a:ext cx="1177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808080"/>
                  </a:solidFill>
                  <a:latin typeface="Arial"/>
                </a:rPr>
                <a:t>High Outli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8"/>
          <p:cNvGrpSpPr/>
          <p:nvPr/>
        </p:nvGrpSpPr>
        <p:grpSpPr>
          <a:xfrm>
            <a:off x="843120" y="5246640"/>
            <a:ext cx="1769760" cy="1188720"/>
            <a:chOff x="843120" y="5246640"/>
            <a:chExt cx="1769760" cy="1188720"/>
          </a:xfrm>
        </p:grpSpPr>
        <p:sp>
          <p:nvSpPr>
            <p:cNvPr id="166" name="Freeform 29"/>
            <p:cNvSpPr/>
            <p:nvPr/>
          </p:nvSpPr>
          <p:spPr>
            <a:xfrm>
              <a:off x="843120" y="5246640"/>
              <a:ext cx="1769760" cy="1188720"/>
            </a:xfrm>
            <a:prstGeom prst="pie">
              <a:avLst/>
            </a:pr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0"/>
            <p:cNvSpPr/>
            <p:nvPr/>
          </p:nvSpPr>
          <p:spPr>
            <a:xfrm>
              <a:off x="939600" y="5570280"/>
              <a:ext cx="1177560" cy="81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808080"/>
                  </a:solidFill>
                  <a:latin typeface="Arial"/>
                </a:rPr>
                <a:t>Low Outli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31"/>
          <p:cNvSpPr/>
          <p:nvPr/>
        </p:nvSpPr>
        <p:spPr>
          <a:xfrm>
            <a:off x="900000" y="15559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justments are made to the “average” rate for patients that stay in hospital for fewer days than or more days than the pre-defined times for each D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General Casemix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Object 3" descr=""/>
          <p:cNvPicPr/>
          <p:nvPr/>
        </p:nvPicPr>
        <p:blipFill>
          <a:blip r:embed="rId1"/>
          <a:stretch/>
        </p:blipFill>
        <p:spPr>
          <a:xfrm>
            <a:off x="1835280" y="1447920"/>
            <a:ext cx="5209920" cy="912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Day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fferences between the costs of DRGs in different hospitals can  be due to differences in the proportions of same day cases.  This can be due to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fferent types of cases in the DRG (COMPLEX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fferences in admission/discharge policy (eg admitting rather than treating on an outpatient b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spital clinical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tting separate same day payment rate within a DRG  can be used to prevent hospitals with mostly overnight patients being inappropriately disadvant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me day payment rates are not always a good idea because they can discourage  hospitals from moving to same day care where appropriate – CLINICAL JUDGEMENT IS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o-payments for specific subgroups within 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possible to identify subgroups within a DRG that cost more than the average.  In these cases additional payments can b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payments are best used where  groups of patients have higher than average cost in many DRGs.  eg in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ventilat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ustral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oo many copayments reverts back to input based f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G classifications around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s or ‘Block funding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costs for some hospital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quantify (eg teaching hospital costs)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irectly related to activity (eg running an emergency department; the department must be kept open regardless of the level of ac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ch cases cash grants are often paid to hospitals in addition to activity based fu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grants are often easier to use  in a public system than in a privat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djustment Funding P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budget is put aside for allocating additional funding for specific patients based upon applications from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 New Technology in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$3million is set aside and hospitals apply for funding specific technologies in small numbers of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 High Cost Patient Pool in Western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20% of total hospital costs are required to treat the most expensive 5% of patients.  These patients are difficult to fund under the casemix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ach. In WA hospitals are able to apply for additional funding for individual patients, but patien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ords are independently clinically reviewed and payment approved by an industry committe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Moderation While in Tran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ew activity based funding models are introduced not all hospitals are equally affected- some win and others 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protect hospitals from extreme budgetary changes until they have time to adjust to the new funding model (ie find efficienci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usually done by introducing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nts or differential unit prices in the first few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Casemix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mix was initially developed as a prospective payment mechanism (ie this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ctivity determines this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funding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pproach is still widely used (eg USA Medicare, Victoria public hospitals and within the Private sect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ctive payment increases the incentives to achieve technical efficiency but reduces budgetary certainty for hosp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mix can also be used as a retrospective payment mechanism (ie last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ctivity determines this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funding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 of model is used in Ireland and New South W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in retrospective casemix models this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budget is set based upon last ye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budget plus grow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ing the total amount of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suggests that health expenditure is extremely elastic and the potential to spend money on health care almost certainly exceeds any syste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apacity to pay for that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ystems attempt to limit the amount of activity fund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activity caps (ie only funding activity to a certain level)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ing funding for some health care intervention   (eg cosmetic surgery)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ng patient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around activity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s cannot exactly identify how many people will be ad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models can be designed to accommodate this uncertainty by funding activity above target activity at a marginal rate and reducing funding at a marginal rate for hospitals failing to achieve tar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ponents of a successful casemix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revious slides we have described the technical issues in developing a successful casemix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echnical issues are equally important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ness and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takeholder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Formal channels of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Willingness to listen and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source homogeneity and clinical meaningfulnes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compensate for “classification fail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classification may not be able to measure the selection by one hospital of particular types of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ly use additional flag for a price adjustment – eg use of ventilation, Dx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hospital fl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002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ement of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ing for classification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ers and exceptional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ystems use outliers or exceptional case adjust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documented example is Vict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s call it “tinkering” or interfering with the signals from the payment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say that it adds precisions and fairness to the pay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a categories in Fund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and different models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the care type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optim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patient and sub-acute caseload and 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OR CONSIST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S WITH APP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ssion and discharge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ularly important where substitution with inpatient services can occur 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up for a surgical ad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habilitation phase of a join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even complete epis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neutral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and clear definitions of payment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1677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patient activity management tool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ING, MODELLING,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of adjustments for funding pr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marijanao</cp:lastModifiedBy>
  <dcterms:modified xsi:type="dcterms:W3CDTF">2011-12-21T06:15:59Z</dcterms:modified>
  <cp:revision>211</cp:revision>
  <dc:subject/>
  <dc:title>Наслов</dc:title>
</cp:coreProperties>
</file>